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14.jpeg" ContentType="image/jpeg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4400" y="872028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8CB9-0169-45A6-9F35-2BE50039D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did the pneumatic math for 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here the various force values associated with each bore size, for varying applied press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s are just as we discussed bef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56231-DB40-43BC-8A94-A18A63B9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9D21C-5DC4-465A-9D6E-9A8189F856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3BCD-F7A1-4223-A845-B432E2FD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16D92-2941-4B85-B71C-E0A1D6F20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62D16-C8BA-4083-9403-23E411504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AC97C-2C64-4955-8D98-88CE3BFD4B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26031-1B91-4D81-8246-D082DB72C2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181A4-2717-4EBA-A480-39C7AE79AE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28BD0-BEA0-49E8-B3EC-DE459F213E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1DC24-3E82-441C-AFEB-EA0045EB66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A9135-0A11-4744-A00D-D54B23EEA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53CA4-6B2C-4210-9995-EE18B4A11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4C01B-A584-40B4-95CD-B5637A72D7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9A015-C9EA-457A-9F14-0DCCEC3072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D7C67-74CF-4FED-9DB4-510C39B68F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5C14C-7C47-430F-8DA6-F50D8EA9B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AE6E7-C0E7-4511-9AF0-3F9CF6BE3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AF82-0A6C-45C4-A64E-A8B1BF7AD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24693-75D7-4D4F-8266-54D159697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240C-D890-466D-8475-AE75888132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A8941-1E1D-401E-8634-61F21887A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E2CD-1D2A-4E18-ADA0-7C083AB89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2F402-F929-448E-8A01-9C65189DD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40D2-C027-4330-B6F2-B15754C1B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4004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8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fld id="{51B0D26C-3355-4C35-AD8C-3D4BAE056E5F}" type="slidenum"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2007 </a:t>
            </a:r>
            <a:r>
              <a:rPr b="1" i="1" lang="en-US" sz="1400" spc="-1" strike="noStrike">
                <a:solidFill>
                  <a:srgbClr val="000000"/>
                </a:solidFill>
                <a:latin typeface="Trebuchet MS"/>
              </a:rPr>
              <a:t>FIRST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Robotics Con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5867280"/>
            <a:ext cx="1067040" cy="881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19640"/>
            <a:ext cx="8458200" cy="95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rebuchet MS"/>
              </a:rPr>
              <a:t>Presented by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Raul Olivera, WildStang - 111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neumatic Energy &amp; Power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00200" y="15159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ergy = Force x Dista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ce = Pressure x Are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tance = Volume / Are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ergy = Pressure x Volu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psig x cu-in =&gt; in-lbs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= Energy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wer = Pressure x Volume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( Units = in-lbs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low rate = Volume / Tim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ower = Pressure x Flow ra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Psig x cu-in/sec =&gt; in-lbs/sec 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6399360" y="1665360"/>
            <a:ext cx="222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U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euma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58080" cy="7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720" y="1488960"/>
            <a:ext cx="77724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 Energy Capacity = Volume of Pressurized Ai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ing the loss and addition of pressurized air is very importa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Y - the volume of air used in large cylinders could deplete your supply very quickly if not manag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696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tore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orage Tanks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ubing, Fittings &amp; Valve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mpress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nsume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xhaust of actuator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eakag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dd Pneumatic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ctivate compressor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5950080" y="5079960"/>
            <a:ext cx="2974320" cy="584280"/>
            <a:chOff x="5950080" y="5079960"/>
            <a:chExt cx="2974320" cy="584280"/>
          </a:xfrm>
        </p:grpSpPr>
        <p:sp>
          <p:nvSpPr>
            <p:cNvPr id="161" name=""/>
            <p:cNvSpPr/>
            <p:nvPr/>
          </p:nvSpPr>
          <p:spPr>
            <a:xfrm>
              <a:off x="5950080" y="5079960"/>
              <a:ext cx="2433600" cy="58428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20440" y="5079960"/>
              <a:ext cx="1757520" cy="972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68320" y="5079960"/>
              <a:ext cx="315360" cy="27576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59720" y="5182560"/>
              <a:ext cx="1264680" cy="473400"/>
            </a:xfrm>
            <a:custGeom>
              <a:avLst/>
              <a:gdLst/>
              <a:ahLst/>
              <a:rect l="l" t="t" r="r" b="b"/>
              <a:pathLst>
                <a:path w="1347" h="700">
                  <a:moveTo>
                    <a:pt x="1339" y="264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1347" y="424"/>
                  </a:lnTo>
                  <a:lnTo>
                    <a:pt x="1339" y="264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V="1">
            <a:off x="1168560" y="4662360"/>
            <a:ext cx="463320" cy="1633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828800" y="4648320"/>
            <a:ext cx="479520" cy="1660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1393920" y="4100400"/>
            <a:ext cx="1828800" cy="547920"/>
          </a:xfrm>
          <a:custGeom>
            <a:avLst/>
            <a:gdLst/>
            <a:ahLst/>
            <a:rect l="l" t="t" r="r" b="b"/>
            <a:pathLst>
              <a:path w="1276" h="1072">
                <a:moveTo>
                  <a:pt x="26" y="0"/>
                </a:moveTo>
                <a:cubicBezTo>
                  <a:pt x="13" y="125"/>
                  <a:pt x="0" y="251"/>
                  <a:pt x="35" y="372"/>
                </a:cubicBezTo>
                <a:cubicBezTo>
                  <a:pt x="70" y="493"/>
                  <a:pt x="116" y="621"/>
                  <a:pt x="239" y="726"/>
                </a:cubicBezTo>
                <a:cubicBezTo>
                  <a:pt x="362" y="831"/>
                  <a:pt x="598" y="943"/>
                  <a:pt x="771" y="1001"/>
                </a:cubicBezTo>
                <a:cubicBezTo>
                  <a:pt x="944" y="1059"/>
                  <a:pt x="1190" y="1060"/>
                  <a:pt x="1276" y="10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4320" y="4184640"/>
            <a:ext cx="209520" cy="450720"/>
          </a:xfrm>
          <a:custGeom>
            <a:avLst/>
            <a:gdLst/>
            <a:ahLst/>
            <a:rect l="l" t="t" r="r" b="b"/>
            <a:pathLst>
              <a:path w="132" h="284">
                <a:moveTo>
                  <a:pt x="0" y="284"/>
                </a:moveTo>
                <a:cubicBezTo>
                  <a:pt x="6" y="254"/>
                  <a:pt x="13" y="153"/>
                  <a:pt x="35" y="106"/>
                </a:cubicBezTo>
                <a:cubicBezTo>
                  <a:pt x="57" y="59"/>
                  <a:pt x="112" y="22"/>
                  <a:pt x="13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962520"/>
            <a:ext cx="434880" cy="2253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10040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0" y="0"/>
                </a:moveTo>
                <a:cubicBezTo>
                  <a:pt x="0" y="0"/>
                  <a:pt x="75" y="0"/>
                  <a:pt x="15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09960" y="3889440"/>
            <a:ext cx="352440" cy="660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33600" y="3592440"/>
            <a:ext cx="268560" cy="2970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03440" y="3875040"/>
            <a:ext cx="113040" cy="112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76800" y="3914640"/>
            <a:ext cx="3825720" cy="1184400"/>
          </a:xfrm>
          <a:custGeom>
            <a:avLst/>
            <a:gdLst/>
            <a:ahLst/>
            <a:rect l="l" t="t" r="r" b="b"/>
            <a:pathLst>
              <a:path w="2410" h="746">
                <a:moveTo>
                  <a:pt x="0" y="63"/>
                </a:moveTo>
                <a:cubicBezTo>
                  <a:pt x="529" y="27"/>
                  <a:pt x="1077" y="0"/>
                  <a:pt x="1453" y="46"/>
                </a:cubicBezTo>
                <a:cubicBezTo>
                  <a:pt x="1829" y="92"/>
                  <a:pt x="2108" y="221"/>
                  <a:pt x="2259" y="338"/>
                </a:cubicBezTo>
                <a:cubicBezTo>
                  <a:pt x="2410" y="455"/>
                  <a:pt x="2337" y="661"/>
                  <a:pt x="2357" y="7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62400" y="4392720"/>
            <a:ext cx="1941480" cy="693720"/>
          </a:xfrm>
          <a:custGeom>
            <a:avLst/>
            <a:gdLst/>
            <a:ahLst/>
            <a:rect l="l" t="t" r="r" b="b"/>
            <a:pathLst>
              <a:path w="2410" h="746">
                <a:moveTo>
                  <a:pt x="0" y="63"/>
                </a:moveTo>
                <a:cubicBezTo>
                  <a:pt x="529" y="27"/>
                  <a:pt x="1077" y="0"/>
                  <a:pt x="1453" y="46"/>
                </a:cubicBezTo>
                <a:cubicBezTo>
                  <a:pt x="1829" y="92"/>
                  <a:pt x="2108" y="221"/>
                  <a:pt x="2259" y="338"/>
                </a:cubicBezTo>
                <a:cubicBezTo>
                  <a:pt x="2410" y="455"/>
                  <a:pt x="2337" y="661"/>
                  <a:pt x="2357" y="7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46520" y="3313080"/>
            <a:ext cx="0" cy="3052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327672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20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2920" y="3276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60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19320" y="990720"/>
          <a:ext cx="6013440" cy="2214360"/>
        </p:xfrm>
        <a:graphic>
          <a:graphicData uri="http://schemas.openxmlformats.org/drawingml/2006/table">
            <a:tbl>
              <a:tblPr/>
              <a:tblGrid>
                <a:gridCol w="787320"/>
                <a:gridCol w="785880"/>
                <a:gridCol w="961920"/>
                <a:gridCol w="803160"/>
                <a:gridCol w="839880"/>
                <a:gridCol w="873000"/>
                <a:gridCol w="962280"/>
              </a:tblGrid>
              <a:tr h="30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PSI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 PSI S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 PE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762120" y="152280"/>
            <a:ext cx="7467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nergy Capacity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2320" y="577440"/>
            <a:ext cx="7772400" cy="49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ompressor - Published Performance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0200" y="1536840"/>
            <a:ext cx="3271320" cy="2474280"/>
            <a:chOff x="430200" y="1536840"/>
            <a:chExt cx="3271320" cy="2474280"/>
          </a:xfrm>
        </p:grpSpPr>
        <p:sp>
          <p:nvSpPr>
            <p:cNvPr id="184" name=""/>
            <p:cNvSpPr/>
            <p:nvPr/>
          </p:nvSpPr>
          <p:spPr>
            <a:xfrm>
              <a:off x="430200" y="1536840"/>
              <a:ext cx="3271320" cy="24742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457560" y="1566360"/>
              <a:ext cx="3238920" cy="24372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86" name=""/>
          <p:cNvGraphicFramePr/>
          <p:nvPr/>
        </p:nvGraphicFramePr>
        <p:xfrm>
          <a:off x="4540320" y="1422360"/>
          <a:ext cx="3809880" cy="301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40320" y="1422360"/>
                    <a:ext cx="380988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 flipV="1">
            <a:off x="6927840" y="20649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520040" y="2052360"/>
            <a:ext cx="0" cy="173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verages about 660 PEU/s in the cut out range (90 to 120 psig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724280" y="1523880"/>
          <a:ext cx="3810240" cy="32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810240" cy="32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46240"/>
            <a:ext cx="7772400" cy="49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Compressor - My experiment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4723920"/>
            <a:ext cx="6553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verages about 110 PEU/s in the cut out range (90 to 120 psig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7391520" y="21333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8305920" y="21333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371600" y="1676520"/>
            <a:ext cx="19368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nergy Capacity Example - AGAIN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Storage Tank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=&gt; Energy Capacity = 4524 (2 tank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ylinder - 2” dia x 24” stroke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ergy Capacity used = 4524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Compressor can replace 160 per second at 60 psig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nclusion: It will take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6.85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to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28.3 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seconds to replace the energy used by one activatio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3911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Managing the Loss of Energy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Use only the amount of energy required, not too much more - WHY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nimize Volume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ubing length - valve to cylinder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linder strok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ylinder diam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Minimize regulated press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t, keep above valve pilot pressure requir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2720" y="3124080"/>
            <a:ext cx="730440" cy="0"/>
          </a:xfrm>
          <a:prstGeom prst="line">
            <a:avLst/>
          </a:prstGeom>
          <a:ln w="104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70000"/>
            <a:ext cx="8001000" cy="64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ptimize Cylinder Stroke, Diameter and Pressure</a:t>
            </a:r>
            <a:endParaRPr b="1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44680" y="1347480"/>
            <a:ext cx="77724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trok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orter stroke =&gt; less leverage for angled mov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horter stroke =&gt; less weight fo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iame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diameter =&gt; more pressure required for same for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aller diameter =&gt; less weight fo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essu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 pressure =&gt; need a bigger, heavier cylind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ess pressure =&gt; less likely to lea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3962520"/>
            <a:ext cx="344520" cy="365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wer Experim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18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urpose: Determine Force and Power curves for a pneumatic cylinder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et-up: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8” stroke by 1.5” diameter cylinder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All data taken at 60 psig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rebuchet MS"/>
              </a:rPr>
              <a:t>Time recorded to fully extend or contract (8.0”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Electronic sensor used at both ends of stroke for timing accuracy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"/>
          <p:cNvSpPr/>
          <p:nvPr/>
        </p:nvSpPr>
        <p:spPr>
          <a:xfrm>
            <a:off x="1577880" y="2711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ll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9760" y="277020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ush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48600" y="546264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32920" y="31748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506400" y="3435480"/>
            <a:ext cx="351000" cy="28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722760" y="3948120"/>
            <a:ext cx="980280" cy="368280"/>
            <a:chOff x="3722760" y="3948120"/>
            <a:chExt cx="980280" cy="368280"/>
          </a:xfrm>
        </p:grpSpPr>
        <p:sp>
          <p:nvSpPr>
            <p:cNvPr id="219" name=""/>
            <p:cNvSpPr/>
            <p:nvPr/>
          </p:nvSpPr>
          <p:spPr>
            <a:xfrm>
              <a:off x="3999600" y="394812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3722760" y="4131000"/>
              <a:ext cx="28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600200" y="3733920"/>
            <a:ext cx="2260080" cy="315720"/>
            <a:chOff x="1600200" y="3733920"/>
            <a:chExt cx="2260080" cy="315720"/>
          </a:xfrm>
        </p:grpSpPr>
        <p:sp>
          <p:nvSpPr>
            <p:cNvPr id="222" name=""/>
            <p:cNvSpPr/>
            <p:nvPr/>
          </p:nvSpPr>
          <p:spPr>
            <a:xfrm rot="5400000">
              <a:off x="2924280" y="3260880"/>
              <a:ext cx="315720" cy="126180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5400000">
              <a:off x="3728880" y="3822480"/>
              <a:ext cx="124920" cy="137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1976400" y="3473280"/>
              <a:ext cx="88560" cy="840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47560" y="5430960"/>
            <a:ext cx="536760" cy="493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4065480"/>
            <a:ext cx="2451240" cy="1666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061640" y="5654520"/>
            <a:ext cx="716040" cy="3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11080" y="3900600"/>
            <a:ext cx="433440" cy="458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44640" y="4059360"/>
            <a:ext cx="311040" cy="166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026720" y="3903840"/>
            <a:ext cx="601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2880" y="4127400"/>
            <a:ext cx="0" cy="13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9600" y="3135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161720" y="3421080"/>
            <a:ext cx="23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049800" y="3678120"/>
            <a:ext cx="2260800" cy="316080"/>
            <a:chOff x="6049800" y="3678120"/>
            <a:chExt cx="2260800" cy="316080"/>
          </a:xfrm>
        </p:grpSpPr>
        <p:sp>
          <p:nvSpPr>
            <p:cNvPr id="235" name=""/>
            <p:cNvSpPr/>
            <p:nvPr/>
          </p:nvSpPr>
          <p:spPr>
            <a:xfrm rot="16200000">
              <a:off x="6670440" y="3205080"/>
              <a:ext cx="316080" cy="126216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6200000">
              <a:off x="6056280" y="3767040"/>
              <a:ext cx="125280" cy="1382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6200000">
              <a:off x="7845480" y="3413160"/>
              <a:ext cx="88920" cy="841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997520" y="5375160"/>
            <a:ext cx="536400" cy="493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08520" y="4010040"/>
            <a:ext cx="2670480" cy="1857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1040" y="3844800"/>
            <a:ext cx="433440" cy="45900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94240" y="4003560"/>
            <a:ext cx="311400" cy="16668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5477040" y="3838680"/>
            <a:ext cx="28303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62480" y="4071960"/>
            <a:ext cx="0" cy="13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277120" y="3754440"/>
            <a:ext cx="88920" cy="17136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260280"/>
            <a:ext cx="7772400" cy="8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Outlin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4784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ome Basics of Pneumatics and Associated Physic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ssure - Absolute &amp; Gage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rce, Pressure &amp; Are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ir Properti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ow Rat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Electrical Analog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chanical Power &amp; Work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neumatic Energy &amp; Pow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Managing Pneumatic Energy Capacity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Experimen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s vs. Motor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rce Values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038840" cy="25146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648320" y="1066680"/>
            <a:ext cx="4114800" cy="25894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438280" y="3809880"/>
            <a:ext cx="4267440" cy="27482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80880" y="8380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09560" y="275760"/>
            <a:ext cx="7772400" cy="7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ylinder / System Hysteresi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82320" y="2590920"/>
            <a:ext cx="5526360" cy="3633480"/>
            <a:chOff x="382320" y="2590920"/>
            <a:chExt cx="5526360" cy="3633480"/>
          </a:xfrm>
        </p:grpSpPr>
        <p:sp>
          <p:nvSpPr>
            <p:cNvPr id="253" name=""/>
            <p:cNvSpPr/>
            <p:nvPr/>
          </p:nvSpPr>
          <p:spPr>
            <a:xfrm>
              <a:off x="1314360" y="2590920"/>
              <a:ext cx="0" cy="31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35240" y="5765760"/>
              <a:ext cx="457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2320" y="369108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67280" y="5856120"/>
              <a:ext cx="19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ulated Press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24080" y="2635200"/>
              <a:ext cx="3457440" cy="3110040"/>
            </a:xfrm>
            <a:custGeom>
              <a:avLst/>
              <a:gdLst/>
              <a:ahLst/>
              <a:rect l="l" t="t" r="r" b="b"/>
              <a:pathLst>
                <a:path w="2178" h="2211">
                  <a:moveTo>
                    <a:pt x="0" y="2211"/>
                  </a:moveTo>
                  <a:lnTo>
                    <a:pt x="2178" y="675"/>
                  </a:lnTo>
                  <a:lnTo>
                    <a:pt x="2158" y="0"/>
                  </a:lnTo>
                  <a:lnTo>
                    <a:pt x="0" y="1873"/>
                  </a:lnTo>
                  <a:lnTo>
                    <a:pt x="0" y="2211"/>
                  </a:lnTo>
                  <a:close/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954520" y="4640040"/>
              <a:ext cx="577800" cy="36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46400" y="4867200"/>
              <a:ext cx="14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rting 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754000" y="3379680"/>
              <a:ext cx="70308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5920" y="302256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sisting for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72840" y="1219320"/>
            <a:ext cx="5040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ion hysteresis is very pronounced due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ylinder and flow f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287680" y="2448000"/>
            <a:ext cx="3568680" cy="28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an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ba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cannot move objects at rated force - design for thi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ould b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rebuchet MS"/>
              </a:rPr>
              <a:t>good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, if leakage occurs and pressure drops slightly, the cylinder will still hol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9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8920" y="1223640"/>
            <a:ext cx="41562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Force versus time curve was non-linear as expec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Experimental setup was not perfect, some variation in data expec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me friction in cable syst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an several times for each weight and took averag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ax force that could move was typically less than 85% of theoretical max force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343400" y="990720"/>
          <a:ext cx="4568760" cy="280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90720"/>
                    <a:ext cx="456876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343400" y="3809880"/>
          <a:ext cx="457848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809880"/>
                    <a:ext cx="457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304920" y="7621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880" y="1077840"/>
            <a:ext cx="4073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s pneumatic cylinder systems is not as powerful as better motors in our KOP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.5” cylinder ~= 80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P motor ~= 171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M motor (small) ~= 337 wat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How do we deal with non-linear behavior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for the max force to occur before the “knee” in the cur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343400" y="838080"/>
          <a:ext cx="4540320" cy="287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838080"/>
                    <a:ext cx="4540320" cy="28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343400" y="3657600"/>
          <a:ext cx="4503600" cy="286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657600"/>
                    <a:ext cx="4503600" cy="28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Pneumatic Power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 said “1.5” cylinder ~= 80 watts”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s this True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762120" y="19051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at determines the power capacity of a cylinder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24382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83760" indent="-38376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s it limited by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Length of the cylin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Diameter of the cylind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Max flow rate of the syste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83760" indent="-3837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max pressure set on the regul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2120" y="4495680"/>
            <a:ext cx="7619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 is determined by the amount of energy that can be injected into the cylinder - NOT the cylinder paramet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246384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    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821160" indent="-372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rebuchet MS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1680" indent="-3916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Trebuchet MS"/>
              </a:rPr>
              <a:t>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1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619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neumatics systems are analogous to electrical systems except for the extra non-linear behavio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orce capacity is determine solely by pressure and cylinder diame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theoretical rated force can be held but not mov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Energy usage is determine by pressure and cylinder volum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 entire system design determines the power capacity of any cylind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 is easy to run out of pneumatic energy when large cylinder volumes are used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Your compressor most likely does not perform to published specs - do some experiment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8720" y="1409760"/>
            <a:ext cx="7905600" cy="39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You are allowed to use as many cylinders as you like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ever, you are limited in the types and sizes of cylinders allow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You are limited to the KOP Motor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st of what you need for the pneumatic system is provided in the KOP or easily order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tors have to be geared to produce the desired force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ylinder size can just be picked for the forces you ne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Pneumatics are best suited for linear motion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are best suited for angular mo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458200" cy="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8720" y="1409760"/>
            <a:ext cx="7905600" cy="38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Our ability to control the position of mechanisms actuated by cylinders is very limit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e are not given integrated, dynamic airflow or pressure control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We are given much more versatile electronic controls for motor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can be stalled without damage to the pneumatic system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will draw large current and let out the magic smok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absorb shock loads rather well and bounce back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However, be careful of over pressure conditions caused by flow control valv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Motors have to be actively held with feedback controls or locked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neumatics vs. DC Motors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Trebuchet MS"/>
              </a:rPr>
              <a:t>Some, but not all important differences</a:t>
            </a:r>
            <a:endParaRPr b="1" lang="en-US" sz="1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99920" y="1428840"/>
            <a:ext cx="7848360" cy="486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use up their power source rather quickly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4 air tanks we are allowed do not hold much work capacit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otors use up very little of the total capacity of the batte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The decision to use Pneumatics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e initial investment in weight is great - mostly due to compresso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therwise, very limited air capacity if leave compressor off robo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nce invested use for as many applications as feasibl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Easy to add more functionality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</a:rPr>
              <a:t>Cylinders used with single solenoid valves are great for Armageddon devices - stuff happens when power is shut off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his could be good or bad - use wisel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ressure - Absolute &amp; Gag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ressure = matter pushing against matter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 pushing against another objec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bsolute (psia) =&gt; True matter based pressu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0 psia =&gt; no matter present to press against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too important in our desig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Gage (psig) =&gt; Relative to Atmospher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0 psig =&gt; pressure in equilibrium with atmosphe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regulators and gauges based on thi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21840"/>
            <a:ext cx="7772400" cy="80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orce, Pressure &amp; Area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514160"/>
            <a:ext cx="77724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Pressure = Force / Area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orce = Pressure X Area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Example:  30 psig in 2” diameter cylinder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76440" y="4059360"/>
            <a:ext cx="5029200" cy="1371600"/>
            <a:chOff x="1576440" y="4059360"/>
            <a:chExt cx="5029200" cy="1371600"/>
          </a:xfrm>
        </p:grpSpPr>
        <p:sp>
          <p:nvSpPr>
            <p:cNvPr id="101" name=""/>
            <p:cNvSpPr/>
            <p:nvPr/>
          </p:nvSpPr>
          <p:spPr>
            <a:xfrm>
              <a:off x="1576440" y="4059360"/>
              <a:ext cx="4114800" cy="137160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3640" y="4059360"/>
              <a:ext cx="2971800" cy="2286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7720" y="4059360"/>
              <a:ext cx="533520" cy="64764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67240" y="4300560"/>
              <a:ext cx="2138400" cy="1111320"/>
            </a:xfrm>
            <a:custGeom>
              <a:avLst/>
              <a:gdLst/>
              <a:ahLst/>
              <a:rect l="l" t="t" r="r" b="b"/>
              <a:pathLst>
                <a:path w="1347" h="700">
                  <a:moveTo>
                    <a:pt x="1339" y="264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1347" y="424"/>
                  </a:lnTo>
                  <a:lnTo>
                    <a:pt x="1339" y="264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729480" y="4687920"/>
            <a:ext cx="814320" cy="301680"/>
          </a:xfrm>
          <a:prstGeom prst="rightArrow">
            <a:avLst>
              <a:gd name="adj1" fmla="val 50000"/>
              <a:gd name="adj2" fmla="val 67482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01800" y="3581280"/>
            <a:ext cx="290520" cy="479520"/>
          </a:xfrm>
          <a:prstGeom prst="downArrow">
            <a:avLst>
              <a:gd name="adj1" fmla="val 50000"/>
              <a:gd name="adj2" fmla="val 4126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2560" y="36259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p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19240" y="4297320"/>
            <a:ext cx="11160" cy="113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06680" y="4754520"/>
            <a:ext cx="858960" cy="21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0” d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0600" y="56642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e = 30 psi X 3.14 sq-in = 94.2 l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05920" y="342900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”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14sq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65400" y="454824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4.2 l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Some Basic Properties of Air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Compressibl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igher Pressure = Higher Friction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Ideal Gas Law: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V = nRT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ssure is proportional to Temperatur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Pressure is inversely proportional to Volum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Pressure &amp; Volume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071800" y="2325600"/>
            <a:ext cx="6436800" cy="1371600"/>
            <a:chOff x="2071800" y="2325600"/>
            <a:chExt cx="6436800" cy="1371600"/>
          </a:xfrm>
        </p:grpSpPr>
        <p:sp>
          <p:nvSpPr>
            <p:cNvPr id="119" name=""/>
            <p:cNvSpPr/>
            <p:nvPr/>
          </p:nvSpPr>
          <p:spPr>
            <a:xfrm>
              <a:off x="2071800" y="2325600"/>
              <a:ext cx="4037760" cy="1371600"/>
            </a:xfrm>
            <a:custGeom>
              <a:avLst/>
              <a:gdLst/>
              <a:ahLst/>
              <a:rect l="l" t="t" r="r" b="b"/>
              <a:pathLst>
                <a:path w="2592" h="864">
                  <a:moveTo>
                    <a:pt x="192" y="0"/>
                  </a:moveTo>
                  <a:lnTo>
                    <a:pt x="192" y="144"/>
                  </a:lnTo>
                  <a:lnTo>
                    <a:pt x="0" y="144"/>
                  </a:lnTo>
                  <a:lnTo>
                    <a:pt x="0" y="864"/>
                  </a:lnTo>
                  <a:lnTo>
                    <a:pt x="2592" y="864"/>
                  </a:lnTo>
                  <a:lnTo>
                    <a:pt x="2592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20360" y="2325600"/>
              <a:ext cx="2916000" cy="228600"/>
            </a:xfrm>
            <a:custGeom>
              <a:avLst/>
              <a:gdLst/>
              <a:ahLst/>
              <a:rect l="l" t="t" r="r" b="b"/>
              <a:pathLst>
                <a:path w="1872" h="144">
                  <a:moveTo>
                    <a:pt x="0" y="0"/>
                  </a:moveTo>
                  <a:lnTo>
                    <a:pt x="0" y="144"/>
                  </a:lnTo>
                  <a:lnTo>
                    <a:pt x="1872" y="144"/>
                  </a:lnTo>
                  <a:lnTo>
                    <a:pt x="187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86120" y="2325600"/>
              <a:ext cx="523440" cy="647640"/>
            </a:xfrm>
            <a:custGeom>
              <a:avLst/>
              <a:gdLst/>
              <a:ahLst/>
              <a:rect l="l" t="t" r="r" b="b"/>
              <a:pathLst>
                <a:path w="336" h="408">
                  <a:moveTo>
                    <a:pt x="0" y="0"/>
                  </a:moveTo>
                  <a:lnTo>
                    <a:pt x="0" y="144"/>
                  </a:lnTo>
                  <a:lnTo>
                    <a:pt x="336" y="144"/>
                  </a:lnTo>
                  <a:lnTo>
                    <a:pt x="336" y="4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08600" y="2567160"/>
              <a:ext cx="3600000" cy="1110960"/>
            </a:xfrm>
            <a:custGeom>
              <a:avLst/>
              <a:gdLst/>
              <a:ahLst/>
              <a:rect l="l" t="t" r="r" b="b"/>
              <a:pathLst>
                <a:path w="2311" h="700">
                  <a:moveTo>
                    <a:pt x="2304" y="266"/>
                  </a:moveTo>
                  <a:lnTo>
                    <a:pt x="147" y="264"/>
                  </a:lnTo>
                  <a:lnTo>
                    <a:pt x="147" y="0"/>
                  </a:lnTo>
                  <a:lnTo>
                    <a:pt x="0" y="1"/>
                  </a:lnTo>
                  <a:lnTo>
                    <a:pt x="3" y="700"/>
                  </a:lnTo>
                  <a:lnTo>
                    <a:pt x="147" y="697"/>
                  </a:lnTo>
                  <a:lnTo>
                    <a:pt x="147" y="424"/>
                  </a:lnTo>
                  <a:lnTo>
                    <a:pt x="2311" y="427"/>
                  </a:lnTo>
                  <a:lnTo>
                    <a:pt x="2304" y="266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239920" y="1795320"/>
            <a:ext cx="434880" cy="625680"/>
            <a:chOff x="2239920" y="1795320"/>
            <a:chExt cx="434880" cy="625680"/>
          </a:xfrm>
        </p:grpSpPr>
        <p:sp>
          <p:nvSpPr>
            <p:cNvPr id="124" name=""/>
            <p:cNvSpPr/>
            <p:nvPr/>
          </p:nvSpPr>
          <p:spPr>
            <a:xfrm>
              <a:off x="2239920" y="1795320"/>
              <a:ext cx="434880" cy="468360"/>
            </a:xfrm>
            <a:prstGeom prst="ellipse">
              <a:avLst/>
            </a:prstGeom>
            <a:solidFill>
              <a:srgbClr val="c0c0c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74920" y="2252520"/>
              <a:ext cx="155520" cy="16848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306160" y="2008080"/>
              <a:ext cx="1681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5140440" y="2809800"/>
            <a:ext cx="94752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5120" y="3247920"/>
            <a:ext cx="94788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97000" y="4683240"/>
            <a:ext cx="4038840" cy="1371600"/>
          </a:xfrm>
          <a:custGeom>
            <a:avLst/>
            <a:gdLst/>
            <a:ahLst/>
            <a:rect l="l" t="t" r="r" b="b"/>
            <a:pathLst>
              <a:path w="2592" h="864">
                <a:moveTo>
                  <a:pt x="192" y="0"/>
                </a:moveTo>
                <a:lnTo>
                  <a:pt x="192" y="144"/>
                </a:lnTo>
                <a:lnTo>
                  <a:pt x="0" y="144"/>
                </a:lnTo>
                <a:lnTo>
                  <a:pt x="0" y="864"/>
                </a:lnTo>
                <a:lnTo>
                  <a:pt x="2592" y="864"/>
                </a:lnTo>
                <a:lnTo>
                  <a:pt x="2592" y="5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46280" y="4683240"/>
            <a:ext cx="2916360" cy="228600"/>
          </a:xfrm>
          <a:custGeom>
            <a:avLst/>
            <a:gdLst/>
            <a:ahLst/>
            <a:rect l="l" t="t" r="r" b="b"/>
            <a:pathLst>
              <a:path w="1872" h="144">
                <a:moveTo>
                  <a:pt x="0" y="0"/>
                </a:moveTo>
                <a:lnTo>
                  <a:pt x="0" y="144"/>
                </a:lnTo>
                <a:lnTo>
                  <a:pt x="1872" y="144"/>
                </a:lnTo>
                <a:lnTo>
                  <a:pt x="187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1680" y="4683240"/>
            <a:ext cx="524160" cy="647640"/>
          </a:xfrm>
          <a:custGeom>
            <a:avLst/>
            <a:gdLst/>
            <a:ahLst/>
            <a:rect l="l" t="t" r="r" b="b"/>
            <a:pathLst>
              <a:path w="336" h="408">
                <a:moveTo>
                  <a:pt x="0" y="0"/>
                </a:moveTo>
                <a:lnTo>
                  <a:pt x="0" y="144"/>
                </a:lnTo>
                <a:lnTo>
                  <a:pt x="336" y="144"/>
                </a:lnTo>
                <a:lnTo>
                  <a:pt x="336" y="4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57680" y="4924440"/>
            <a:ext cx="3600360" cy="1111320"/>
          </a:xfrm>
          <a:custGeom>
            <a:avLst/>
            <a:gdLst/>
            <a:ahLst/>
            <a:rect l="l" t="t" r="r" b="b"/>
            <a:pathLst>
              <a:path w="2311" h="700">
                <a:moveTo>
                  <a:pt x="2304" y="266"/>
                </a:moveTo>
                <a:lnTo>
                  <a:pt x="147" y="264"/>
                </a:lnTo>
                <a:lnTo>
                  <a:pt x="147" y="0"/>
                </a:lnTo>
                <a:lnTo>
                  <a:pt x="0" y="1"/>
                </a:lnTo>
                <a:lnTo>
                  <a:pt x="3" y="700"/>
                </a:lnTo>
                <a:lnTo>
                  <a:pt x="147" y="697"/>
                </a:lnTo>
                <a:lnTo>
                  <a:pt x="147" y="424"/>
                </a:lnTo>
                <a:lnTo>
                  <a:pt x="2311" y="427"/>
                </a:lnTo>
                <a:lnTo>
                  <a:pt x="2304" y="26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54320" y="4152960"/>
            <a:ext cx="434880" cy="625320"/>
            <a:chOff x="2254320" y="4152960"/>
            <a:chExt cx="434880" cy="625320"/>
          </a:xfrm>
        </p:grpSpPr>
        <p:sp>
          <p:nvSpPr>
            <p:cNvPr id="134" name=""/>
            <p:cNvSpPr/>
            <p:nvPr/>
          </p:nvSpPr>
          <p:spPr>
            <a:xfrm>
              <a:off x="2254320" y="4152960"/>
              <a:ext cx="434880" cy="468360"/>
            </a:xfrm>
            <a:prstGeom prst="ellipse">
              <a:avLst/>
            </a:prstGeom>
            <a:solidFill>
              <a:srgbClr val="c0c0c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89320" y="4610160"/>
              <a:ext cx="155520" cy="16812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455920" y="4175280"/>
              <a:ext cx="777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165640" y="5167440"/>
            <a:ext cx="947880" cy="16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0320" y="5605560"/>
            <a:ext cx="947880" cy="168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89720" y="5229360"/>
            <a:ext cx="1027080" cy="446040"/>
          </a:xfrm>
          <a:prstGeom prst="leftArrow">
            <a:avLst>
              <a:gd name="adj1" fmla="val 50000"/>
              <a:gd name="adj2" fmla="val 57567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5160" y="208080"/>
            <a:ext cx="7772400" cy="78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rebuchet MS"/>
              </a:rPr>
              <a:t>Flow Rates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242720"/>
            <a:ext cx="7772400" cy="45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low rate = Volume / time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.e. CFM (L/min, cu-in/sec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low Controls - Valves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lenoid Valu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eck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lief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Control Val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nintended Flow Restrictions: 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arrow Pass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ow Fri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essure drops while it is flowing due to restri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lectrical Analog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Pressure = Voltag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Volume = Capacitanc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low rate = Current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Flow Restrictions = Resistanc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HOWEVER: Air is compressible</a:t>
            </a:r>
            <a:endParaRPr b="0" lang="en-US" sz="25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=&gt; Some unique non-linearities when compared to electrical systems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39760"/>
            <a:ext cx="777240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chanical Power &amp; Work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000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ork = Force x Distance  (in-lb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so Work = Torque x Rev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chanical Energy is always involved in doing work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t is transferred or convert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= Work / Time  (in-lb/s)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Energy /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Concep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w far a resisting object can be moved in a given 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power rating of motors is what allows us to determine which ones can be used for a given jo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Power rating for pneumatic actuators?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pends greatly on the rest of the pneumatic syste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9:17:19Z</dcterms:created>
  <dc:creator>FIRST Place</dc:creator>
  <dc:description/>
  <dc:language>en-US</dc:language>
  <cp:lastModifiedBy>CMIC15</cp:lastModifiedBy>
  <dcterms:modified xsi:type="dcterms:W3CDTF">2008-04-16T21:06:53Z</dcterms:modified>
  <cp:revision>40</cp:revision>
  <dc:subject/>
  <dc:title>Volunteer Pos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59804771</vt:r8>
  </property>
  <property fmtid="{D5CDD505-2E9C-101B-9397-08002B2CF9AE}" pid="3" name="_AuthorEmail">
    <vt:lpwstr>Raul@motorola.com</vt:lpwstr>
  </property>
  <property fmtid="{D5CDD505-2E9C-101B-9397-08002B2CF9AE}" pid="4" name="_AuthorEmailDisplayName">
    <vt:lpwstr>Olivera Raul-CMIC15</vt:lpwstr>
  </property>
  <property fmtid="{D5CDD505-2E9C-101B-9397-08002B2CF9AE}" pid="5" name="_EmailSubject">
    <vt:lpwstr>Congratulations on great presentations!</vt:lpwstr>
  </property>
  <property fmtid="{D5CDD505-2E9C-101B-9397-08002B2CF9AE}" pid="6" name="_NewReviewCycle">
    <vt:lpwstr/>
  </property>
</Properties>
</file>