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4BF-3E1F-438E-ACCE-A38AB70B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id the pneumatic math for 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here the various force values associated with each bore size, for varying applied press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s are just as we discussed bef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3598-7926-4567-BB61-8E6AA0EFC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4CD6-D5E1-4880-9E04-0659F7A5D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7D74-4C99-4E7A-BA4B-286FE15A2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5950-2797-4352-81E8-2C569DACD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C1FE-7A95-4909-9F55-65C8C807E2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0A960-DBB6-46CB-9E21-B0022E09FE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68F9E-0696-44C5-99B3-ABC51AB08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31DA9-9960-4902-8FBD-F3712ADDA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86E8-5665-43FF-9BEC-FE825358F3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4DF0A-BA6D-4C62-8077-C75BEE3CAF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80330-A712-4902-AA1A-DE3703B2E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AAB9-B4FC-41DF-9455-3D716D2FD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B9F63-E268-4BC7-8BF1-1573C0E79A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97508-9258-4F30-98A7-1DB58863C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A408-015E-4E24-BEA5-E50EF8EF52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C079-445A-4744-8ED5-EB2033AB71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479B-95E5-4A5B-81AC-7BDDA07C0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BDE2-2D5B-4A5B-AAFE-1ED01AB8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DB46-D29D-4BC6-B308-2CCB71E0D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B105-61FE-4E5D-BC5A-BA269C925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2EBF-EFE2-4298-9B5E-68ED623A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DE5B-F598-45A7-A744-F0F59F29E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130F-499C-4C73-AB42-D1F2D28D8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5B9B-7DC3-4CD5-AB9C-2B1A88A70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2FAE62CE-BBA2-4A50-BFBE-AFA274746C62}" type="slidenum"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7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19640"/>
            <a:ext cx="8458200" cy="95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Presented by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Raul Olivera, WildStang - 111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neumatic Energy &amp; Pow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0200" y="15159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ergy = Force x Dist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ce = Pressure x Are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tance = Volume / Are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ergy = Pressure x Volu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psig x cu-in =&gt; in-lbs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= Energy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= Pressure x Volume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 Units = in-lbs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low rate = Volume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wer = Pressure x Flow r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Psig x cu-in/sec =&gt; in-lbs/sec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6399360" y="1665360"/>
            <a:ext cx="222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U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a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5808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720" y="1488960"/>
            <a:ext cx="77724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 Energy Capacity = Volume of Pressurized Ai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ing the loss and addition of pressurized air is very import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- the volume of air used in large cylinders could deplete your supply very quickly if not manag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tore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orage Tank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ubing, Fittings &amp; Valv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mpress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nsume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xhaust of actua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dd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ctivate compress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950080" y="5079960"/>
            <a:ext cx="2974320" cy="584280"/>
            <a:chOff x="5950080" y="5079960"/>
            <a:chExt cx="2974320" cy="584280"/>
          </a:xfrm>
        </p:grpSpPr>
        <p:sp>
          <p:nvSpPr>
            <p:cNvPr id="161" name=""/>
            <p:cNvSpPr/>
            <p:nvPr/>
          </p:nvSpPr>
          <p:spPr>
            <a:xfrm>
              <a:off x="5950080" y="5079960"/>
              <a:ext cx="2433600" cy="58428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0440" y="5079960"/>
              <a:ext cx="1757520" cy="972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8320" y="5079960"/>
              <a:ext cx="315360" cy="27576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9720" y="5182560"/>
              <a:ext cx="1264680" cy="473400"/>
            </a:xfrm>
            <a:custGeom>
              <a:avLst/>
              <a:gdLst/>
              <a:ahLst/>
              <a:rect l="l" t="t" r="r" b="b"/>
              <a:pathLst>
                <a:path w="1347" h="700">
                  <a:moveTo>
                    <a:pt x="1339" y="264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1347" y="424"/>
                  </a:lnTo>
                  <a:lnTo>
                    <a:pt x="1339" y="264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V="1">
            <a:off x="1168560" y="4662360"/>
            <a:ext cx="463320" cy="1633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828800" y="4648320"/>
            <a:ext cx="479520" cy="166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93920" y="4100400"/>
            <a:ext cx="1828800" cy="547920"/>
          </a:xfrm>
          <a:custGeom>
            <a:avLst/>
            <a:gdLst/>
            <a:ahLst/>
            <a:rect l="l" t="t" r="r" b="b"/>
            <a:pathLst>
              <a:path w="1276" h="1072">
                <a:moveTo>
                  <a:pt x="26" y="0"/>
                </a:moveTo>
                <a:cubicBezTo>
                  <a:pt x="13" y="125"/>
                  <a:pt x="0" y="251"/>
                  <a:pt x="35" y="372"/>
                </a:cubicBezTo>
                <a:cubicBezTo>
                  <a:pt x="70" y="493"/>
                  <a:pt x="116" y="621"/>
                  <a:pt x="239" y="726"/>
                </a:cubicBezTo>
                <a:cubicBezTo>
                  <a:pt x="362" y="831"/>
                  <a:pt x="598" y="943"/>
                  <a:pt x="771" y="1001"/>
                </a:cubicBezTo>
                <a:cubicBezTo>
                  <a:pt x="944" y="1059"/>
                  <a:pt x="1190" y="1060"/>
                  <a:pt x="1276" y="10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4320" y="4184640"/>
            <a:ext cx="209520" cy="450720"/>
          </a:xfrm>
          <a:custGeom>
            <a:avLst/>
            <a:gdLst/>
            <a:ahLst/>
            <a:rect l="l" t="t" r="r" b="b"/>
            <a:pathLst>
              <a:path w="132" h="284">
                <a:moveTo>
                  <a:pt x="0" y="284"/>
                </a:moveTo>
                <a:cubicBezTo>
                  <a:pt x="6" y="254"/>
                  <a:pt x="13" y="153"/>
                  <a:pt x="35" y="106"/>
                </a:cubicBezTo>
                <a:cubicBezTo>
                  <a:pt x="57" y="59"/>
                  <a:pt x="112" y="22"/>
                  <a:pt x="1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962520"/>
            <a:ext cx="434880" cy="2253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10040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0" y="0"/>
                </a:moveTo>
                <a:cubicBezTo>
                  <a:pt x="0" y="0"/>
                  <a:pt x="75" y="0"/>
                  <a:pt x="1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9960" y="3889440"/>
            <a:ext cx="352440" cy="660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33600" y="3592440"/>
            <a:ext cx="268560" cy="2970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03440" y="3875040"/>
            <a:ext cx="113040" cy="112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76800" y="3914640"/>
            <a:ext cx="3825720" cy="1184400"/>
          </a:xfrm>
          <a:custGeom>
            <a:avLst/>
            <a:gdLst/>
            <a:ahLst/>
            <a:rect l="l" t="t" r="r" b="b"/>
            <a:pathLst>
              <a:path w="2410" h="746">
                <a:moveTo>
                  <a:pt x="0" y="63"/>
                </a:moveTo>
                <a:cubicBezTo>
                  <a:pt x="529" y="27"/>
                  <a:pt x="1077" y="0"/>
                  <a:pt x="1453" y="46"/>
                </a:cubicBezTo>
                <a:cubicBezTo>
                  <a:pt x="1829" y="92"/>
                  <a:pt x="2108" y="221"/>
                  <a:pt x="2259" y="338"/>
                </a:cubicBezTo>
                <a:cubicBezTo>
                  <a:pt x="2410" y="455"/>
                  <a:pt x="2337" y="661"/>
                  <a:pt x="2357" y="7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2400" y="4392720"/>
            <a:ext cx="1941480" cy="693720"/>
          </a:xfrm>
          <a:custGeom>
            <a:avLst/>
            <a:gdLst/>
            <a:ahLst/>
            <a:rect l="l" t="t" r="r" b="b"/>
            <a:pathLst>
              <a:path w="2410" h="746">
                <a:moveTo>
                  <a:pt x="0" y="63"/>
                </a:moveTo>
                <a:cubicBezTo>
                  <a:pt x="529" y="27"/>
                  <a:pt x="1077" y="0"/>
                  <a:pt x="1453" y="46"/>
                </a:cubicBezTo>
                <a:cubicBezTo>
                  <a:pt x="1829" y="92"/>
                  <a:pt x="2108" y="221"/>
                  <a:pt x="2259" y="338"/>
                </a:cubicBezTo>
                <a:cubicBezTo>
                  <a:pt x="2410" y="455"/>
                  <a:pt x="2337" y="661"/>
                  <a:pt x="2357" y="7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3313080"/>
            <a:ext cx="0" cy="3052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3276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20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2920" y="3276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60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19320" y="990720"/>
          <a:ext cx="6013440" cy="2214360"/>
        </p:xfrm>
        <a:graphic>
          <a:graphicData uri="http://schemas.openxmlformats.org/drawingml/2006/table">
            <a:tbl>
              <a:tblPr/>
              <a:tblGrid>
                <a:gridCol w="787320"/>
                <a:gridCol w="785880"/>
                <a:gridCol w="961920"/>
                <a:gridCol w="803160"/>
                <a:gridCol w="839880"/>
                <a:gridCol w="873000"/>
                <a:gridCol w="962280"/>
              </a:tblGrid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PSI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PSI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 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2120" y="152280"/>
            <a:ext cx="7467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nergy Capacity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2320" y="577440"/>
            <a:ext cx="777240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ompressor - Published Performance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0200" y="1536840"/>
            <a:ext cx="3271320" cy="2474280"/>
            <a:chOff x="430200" y="1536840"/>
            <a:chExt cx="3271320" cy="2474280"/>
          </a:xfrm>
        </p:grpSpPr>
        <p:sp>
          <p:nvSpPr>
            <p:cNvPr id="184" name=""/>
            <p:cNvSpPr/>
            <p:nvPr/>
          </p:nvSpPr>
          <p:spPr>
            <a:xfrm>
              <a:off x="430200" y="1536840"/>
              <a:ext cx="3271320" cy="24742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457560" y="1566360"/>
              <a:ext cx="3238920" cy="2437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4540320" y="1422360"/>
          <a:ext cx="3809880" cy="30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0320" y="1422360"/>
                    <a:ext cx="38098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V="1">
            <a:off x="6927840" y="20649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520040" y="20523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verages about 660 PEU/s in the cut out range (90 to 120 psig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724280" y="1523880"/>
          <a:ext cx="3810240" cy="32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81024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46240"/>
            <a:ext cx="777240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ompressor - My experimen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verages about 110 PEU/s in the cut out range (90 to 120 psig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21333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05920" y="2133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371600" y="1676520"/>
            <a:ext cx="1936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nergy Capacity Example - AGAIN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orage Tank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=&gt; Energy Capacity = 4524 (2 tank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ylinder - 2” dia x 24” strok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ergy Capacity used = 452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mpressor can replace 160 per second at 60 psi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nclusion: It will take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6.85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28.3 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s to replace the energy used by one activatio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911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Managing the Loss of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 only the amount of energy required, not too much more - WH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nimize Volum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ubing length - valve to cylinde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linder strok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linder diam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nimize regulated press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, keep above valve pilot pressure requir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2720" y="3124080"/>
            <a:ext cx="730440" cy="0"/>
          </a:xfrm>
          <a:prstGeom prst="line">
            <a:avLst/>
          </a:prstGeom>
          <a:ln w="104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0000"/>
            <a:ext cx="8001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mize Cylinder Stroke, Diameter and Pressure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trok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orter stroke =&gt; less leverage for angled mov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orter stroke =&gt; less weight fo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iame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diameter =&gt; more pressure required for same for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diameter =&gt; less weight fo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essu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 pressure =&gt; need a bigger, heavie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 pressure =&gt; less likely to lea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3962520"/>
            <a:ext cx="344520" cy="365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wer Experim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urpose: Determine Force and Power curves for a pneumatic cylind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t-up: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8” stroke by 1.5” diameter cylinder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All data taken at 60 psig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ime recorded to fully extend or contract (8.0”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lectronic sensor used at both ends of stroke for timing accurac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1577880" y="2711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ll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9760" y="2770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sh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48600" y="54626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2920" y="31748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506400" y="3435480"/>
            <a:ext cx="35100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22760" y="3948120"/>
            <a:ext cx="980280" cy="368280"/>
            <a:chOff x="3722760" y="3948120"/>
            <a:chExt cx="980280" cy="368280"/>
          </a:xfrm>
        </p:grpSpPr>
        <p:sp>
          <p:nvSpPr>
            <p:cNvPr id="219" name=""/>
            <p:cNvSpPr/>
            <p:nvPr/>
          </p:nvSpPr>
          <p:spPr>
            <a:xfrm>
              <a:off x="3999600" y="39481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722760" y="4131000"/>
              <a:ext cx="2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00200" y="3733920"/>
            <a:ext cx="2260080" cy="315720"/>
            <a:chOff x="1600200" y="3733920"/>
            <a:chExt cx="2260080" cy="315720"/>
          </a:xfrm>
        </p:grpSpPr>
        <p:sp>
          <p:nvSpPr>
            <p:cNvPr id="222" name=""/>
            <p:cNvSpPr/>
            <p:nvPr/>
          </p:nvSpPr>
          <p:spPr>
            <a:xfrm rot="5400000">
              <a:off x="2924280" y="3260880"/>
              <a:ext cx="315720" cy="1261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728880" y="3822480"/>
              <a:ext cx="124920" cy="137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1976400" y="3473280"/>
              <a:ext cx="88560" cy="84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47560" y="5430960"/>
            <a:ext cx="536760" cy="493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4065480"/>
            <a:ext cx="2451240" cy="166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061640" y="5654520"/>
            <a:ext cx="716040" cy="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1080" y="3900600"/>
            <a:ext cx="433440" cy="458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44640" y="4059360"/>
            <a:ext cx="311040" cy="166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026720" y="3903840"/>
            <a:ext cx="60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2880" y="4127400"/>
            <a:ext cx="0" cy="13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9600" y="3135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161720" y="3421080"/>
            <a:ext cx="23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049800" y="3678120"/>
            <a:ext cx="2260800" cy="316080"/>
            <a:chOff x="6049800" y="3678120"/>
            <a:chExt cx="2260800" cy="316080"/>
          </a:xfrm>
        </p:grpSpPr>
        <p:sp>
          <p:nvSpPr>
            <p:cNvPr id="235" name=""/>
            <p:cNvSpPr/>
            <p:nvPr/>
          </p:nvSpPr>
          <p:spPr>
            <a:xfrm rot="16200000">
              <a:off x="6670440" y="3205080"/>
              <a:ext cx="316080" cy="126216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6056280" y="3767040"/>
              <a:ext cx="125280" cy="13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7845480" y="3413160"/>
              <a:ext cx="88920" cy="841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997520" y="5375160"/>
            <a:ext cx="536400" cy="493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8520" y="4010040"/>
            <a:ext cx="2670480" cy="185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1040" y="3844800"/>
            <a:ext cx="433440" cy="4590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94240" y="4003560"/>
            <a:ext cx="311400" cy="166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77040" y="3838680"/>
            <a:ext cx="28303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2480" y="4071960"/>
            <a:ext cx="0" cy="13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77120" y="3754440"/>
            <a:ext cx="88920" cy="1713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60280"/>
            <a:ext cx="7772400" cy="8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Outlin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478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ome Basics of Pneumatics and Associated Physic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sure - Absolute &amp; Gag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rce, Pressure &amp;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ir Propert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ow Rat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lectrical Analog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chanical Power &amp; Wor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neumatic Energy &amp; Pow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Experimen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s vs. Motor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ce Values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114800" cy="258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438280" y="3809880"/>
            <a:ext cx="4267440" cy="2748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9560" y="275760"/>
            <a:ext cx="7772400" cy="7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ylinder / System Hysteresi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2320" y="2590920"/>
            <a:ext cx="5526360" cy="3633480"/>
            <a:chOff x="382320" y="2590920"/>
            <a:chExt cx="5526360" cy="3633480"/>
          </a:xfrm>
        </p:grpSpPr>
        <p:sp>
          <p:nvSpPr>
            <p:cNvPr id="253" name=""/>
            <p:cNvSpPr/>
            <p:nvPr/>
          </p:nvSpPr>
          <p:spPr>
            <a:xfrm>
              <a:off x="1314360" y="2590920"/>
              <a:ext cx="0" cy="31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35240" y="5765760"/>
              <a:ext cx="45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2320" y="36910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7280" y="585612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ulated Pres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4080" y="2635200"/>
              <a:ext cx="3457440" cy="3110040"/>
            </a:xfrm>
            <a:custGeom>
              <a:avLst/>
              <a:gdLst/>
              <a:ahLst/>
              <a:rect l="l" t="t" r="r" b="b"/>
              <a:pathLst>
                <a:path w="2178" h="2211">
                  <a:moveTo>
                    <a:pt x="0" y="2211"/>
                  </a:moveTo>
                  <a:lnTo>
                    <a:pt x="2178" y="675"/>
                  </a:lnTo>
                  <a:lnTo>
                    <a:pt x="2158" y="0"/>
                  </a:lnTo>
                  <a:lnTo>
                    <a:pt x="0" y="1873"/>
                  </a:lnTo>
                  <a:lnTo>
                    <a:pt x="0" y="2211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954520" y="4640040"/>
              <a:ext cx="577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46400" y="486720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rting 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754000" y="3379680"/>
              <a:ext cx="7030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5920" y="302256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isting 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72840" y="1219320"/>
            <a:ext cx="5040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ion hysteresis is very pronounced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ylinder and flow f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287680" y="2448000"/>
            <a:ext cx="356868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an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cannot move objects at rated force - design for th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ould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if leakage occurs and pressure drops slightly, the cylinder will still hol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8920" y="1223640"/>
            <a:ext cx="41562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Force versus time curve was non-linear as expec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xperimental setup was not perfect, some variation in data expec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me friction in cable syst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n several times for each weight and took avera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ax force that could move was typically less than 85% of theoretical max forc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343400" y="990720"/>
          <a:ext cx="456876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90720"/>
                    <a:ext cx="45687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343400" y="3809880"/>
          <a:ext cx="457848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457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880" y="1077840"/>
            <a:ext cx="4073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s pneumatic cylinder systems is not as powerful as better motors in our KOP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5” cylinder ~= 80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P motor ~= 171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M motor (small) ~= 337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How do we deal with non-linear behavior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for the max force to occur before the “knee” in the cur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343400" y="838080"/>
          <a:ext cx="4540320" cy="28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838080"/>
                    <a:ext cx="454032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343400" y="3657600"/>
          <a:ext cx="4503600" cy="286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657600"/>
                    <a:ext cx="450360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 said “1.5” cylinder ~= 80 watts”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s this True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120" y="19051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at determines the power capacity of a cylinder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438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3760" indent="-383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s it limited b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Length of the cylin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iameter of the cylin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Max flow rate of the syst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max pressure set on the regul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4956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 is determined by the amount of energy that can be injected into the cylinder - NOT the cylinder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246384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    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s systems are analogous to electrical systems except for the extra non-linear behavio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orce capacity is determine solely by pressure and cylinder diame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eoretical rated force can be held but not mov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Energy usage is determine by pressure and cylinder volum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entire system design determines the power capacity of any cylind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 is easy to run out of pneumatic energy when large cylinder volumes are used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Your compressor most likely does not perform to published specs - do some experiment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8720" y="1409760"/>
            <a:ext cx="7905600" cy="39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You are allowed to use as many cylinders as you lik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ever, you are limited in the types and sizes of cylinders allow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You are limited to the KOP Motor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st of what you need for the pneumatic system is provided in the KOP or easily order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tors have to be geared to produce the desired forc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ylinder size can just be picked for the forces you ne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Pneumatics are best suited for linear mo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are best suited for angular mo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458200" cy="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8720" y="1409760"/>
            <a:ext cx="7905600" cy="38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ur ability to control the position of mechanisms actuated by cylinders is very limi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e are not given integrated, dynamic airflow or pressure contro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e are given much more versatile electronic controls for moto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can be stalled without damage to the pneumatic system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will draw large current and let out the magic smok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absorb shock loads rather well and bounce back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ever, be careful of over pressure conditions caused by flow control valv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tors have to be actively held with feedback controls or lock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99920" y="1428840"/>
            <a:ext cx="7848360" cy="48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use up their power source rather quickly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4 air tanks we are allowed do not hold much work capac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use up very little of the total capacity of the batte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The decision to use Pneumatic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initial investment in weight is great - mostly due to compresso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therwise, very limited air capacity if leave compressor off robo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ce invested use for as many applications as feasib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asy to add more functiona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used with single solenoid valves are great for Armageddon devices - stuff happens when power is shut off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ould be good or bad - use wisel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ressure - Absolute &amp; Gag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essure = matter pushing against mat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 pushing against another objec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bsolute (psia) =&gt; True matter based pressu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0 psia =&gt; no matter present to press against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too important in our desig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Gage (psig) =&gt; Relative to Atmosphe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0 psig =&gt; pressure in equilibrium with atmosphe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regulators and gauges based on thi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21840"/>
            <a:ext cx="77724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orce, Pressure &amp; Area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51416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Pressure = Force / Area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rce = Pressure X Area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xample:  30 psig in 2” diameter cylinde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76440" y="4059360"/>
            <a:ext cx="5029200" cy="1371600"/>
            <a:chOff x="1576440" y="4059360"/>
            <a:chExt cx="5029200" cy="1371600"/>
          </a:xfrm>
        </p:grpSpPr>
        <p:sp>
          <p:nvSpPr>
            <p:cNvPr id="101" name=""/>
            <p:cNvSpPr/>
            <p:nvPr/>
          </p:nvSpPr>
          <p:spPr>
            <a:xfrm>
              <a:off x="1576440" y="4059360"/>
              <a:ext cx="4114800" cy="137160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3640" y="4059360"/>
              <a:ext cx="2971800" cy="2286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7720" y="4059360"/>
              <a:ext cx="533520" cy="64764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67240" y="4300560"/>
              <a:ext cx="2138400" cy="1111320"/>
            </a:xfrm>
            <a:custGeom>
              <a:avLst/>
              <a:gdLst/>
              <a:ahLst/>
              <a:rect l="l" t="t" r="r" b="b"/>
              <a:pathLst>
                <a:path w="1347" h="700">
                  <a:moveTo>
                    <a:pt x="1339" y="264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1347" y="424"/>
                  </a:lnTo>
                  <a:lnTo>
                    <a:pt x="1339" y="264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729480" y="4687920"/>
            <a:ext cx="814320" cy="301680"/>
          </a:xfrm>
          <a:prstGeom prst="rightArrow">
            <a:avLst>
              <a:gd name="adj1" fmla="val 50000"/>
              <a:gd name="adj2" fmla="val 674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1800" y="3581280"/>
            <a:ext cx="290520" cy="479520"/>
          </a:xfrm>
          <a:prstGeom prst="downArrow">
            <a:avLst>
              <a:gd name="adj1" fmla="val 50000"/>
              <a:gd name="adj2" fmla="val 412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2560" y="36259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19240" y="4297320"/>
            <a:ext cx="11160" cy="11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06680" y="4754520"/>
            <a:ext cx="858960" cy="21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0”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0600" y="56642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= 30 psi X 3.14 sq-in = 94.2 l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05920" y="342900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”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14sq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65400" y="45482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4.2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ome Basic Properties of Ai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mpressibl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igher Pressure = Higher Frictio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Ideal Gas Law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V = n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ssure is proportional to Temp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ssure is inversely proportional to Volum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ressure &amp; Volum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071800" y="2325600"/>
            <a:ext cx="6436800" cy="1371600"/>
            <a:chOff x="2071800" y="2325600"/>
            <a:chExt cx="6436800" cy="1371600"/>
          </a:xfrm>
        </p:grpSpPr>
        <p:sp>
          <p:nvSpPr>
            <p:cNvPr id="119" name=""/>
            <p:cNvSpPr/>
            <p:nvPr/>
          </p:nvSpPr>
          <p:spPr>
            <a:xfrm>
              <a:off x="2071800" y="2325600"/>
              <a:ext cx="4037760" cy="137160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20360" y="2325600"/>
              <a:ext cx="2916000" cy="2286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86120" y="2325600"/>
              <a:ext cx="523440" cy="64764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08600" y="2567160"/>
              <a:ext cx="3600000" cy="1110960"/>
            </a:xfrm>
            <a:custGeom>
              <a:avLst/>
              <a:gdLst/>
              <a:ahLst/>
              <a:rect l="l" t="t" r="r" b="b"/>
              <a:pathLst>
                <a:path w="2311" h="700">
                  <a:moveTo>
                    <a:pt x="2304" y="266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2311" y="427"/>
                  </a:lnTo>
                  <a:lnTo>
                    <a:pt x="2304" y="26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39920" y="1795320"/>
            <a:ext cx="434880" cy="625680"/>
            <a:chOff x="2239920" y="1795320"/>
            <a:chExt cx="434880" cy="625680"/>
          </a:xfrm>
        </p:grpSpPr>
        <p:sp>
          <p:nvSpPr>
            <p:cNvPr id="124" name=""/>
            <p:cNvSpPr/>
            <p:nvPr/>
          </p:nvSpPr>
          <p:spPr>
            <a:xfrm>
              <a:off x="2239920" y="1795320"/>
              <a:ext cx="434880" cy="468360"/>
            </a:xfrm>
            <a:prstGeom prst="ellipse">
              <a:avLst/>
            </a:prstGeom>
            <a:solidFill>
              <a:srgbClr val="c0c0c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4920" y="2252520"/>
              <a:ext cx="155520" cy="16848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306160" y="2008080"/>
              <a:ext cx="1681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140440" y="2809800"/>
            <a:ext cx="94752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5120" y="3247920"/>
            <a:ext cx="94788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7000" y="4683240"/>
            <a:ext cx="4038840" cy="1371600"/>
          </a:xfrm>
          <a:custGeom>
            <a:avLst/>
            <a:gdLst/>
            <a:ahLst/>
            <a:rect l="l" t="t" r="r" b="b"/>
            <a:pathLst>
              <a:path w="2592" h="864">
                <a:moveTo>
                  <a:pt x="192" y="0"/>
                </a:moveTo>
                <a:lnTo>
                  <a:pt x="192" y="144"/>
                </a:lnTo>
                <a:lnTo>
                  <a:pt x="0" y="144"/>
                </a:lnTo>
                <a:lnTo>
                  <a:pt x="0" y="864"/>
                </a:lnTo>
                <a:lnTo>
                  <a:pt x="2592" y="864"/>
                </a:lnTo>
                <a:lnTo>
                  <a:pt x="2592" y="5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46280" y="4683240"/>
            <a:ext cx="2916360" cy="228600"/>
          </a:xfrm>
          <a:custGeom>
            <a:avLst/>
            <a:gdLst/>
            <a:ahLst/>
            <a:rect l="l" t="t" r="r" b="b"/>
            <a:pathLst>
              <a:path w="1872" h="144">
                <a:moveTo>
                  <a:pt x="0" y="0"/>
                </a:moveTo>
                <a:lnTo>
                  <a:pt x="0" y="144"/>
                </a:lnTo>
                <a:lnTo>
                  <a:pt x="1872" y="144"/>
                </a:lnTo>
                <a:lnTo>
                  <a:pt x="187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1680" y="4683240"/>
            <a:ext cx="524160" cy="647640"/>
          </a:xfrm>
          <a:custGeom>
            <a:avLst/>
            <a:gdLst/>
            <a:ahLst/>
            <a:rect l="l" t="t" r="r" b="b"/>
            <a:pathLst>
              <a:path w="336" h="408">
                <a:moveTo>
                  <a:pt x="0" y="0"/>
                </a:moveTo>
                <a:lnTo>
                  <a:pt x="0" y="144"/>
                </a:lnTo>
                <a:lnTo>
                  <a:pt x="336" y="144"/>
                </a:lnTo>
                <a:lnTo>
                  <a:pt x="336" y="4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4924440"/>
            <a:ext cx="3600360" cy="1111320"/>
          </a:xfrm>
          <a:custGeom>
            <a:avLst/>
            <a:gdLst/>
            <a:ahLst/>
            <a:rect l="l" t="t" r="r" b="b"/>
            <a:pathLst>
              <a:path w="2311" h="700">
                <a:moveTo>
                  <a:pt x="2304" y="266"/>
                </a:moveTo>
                <a:lnTo>
                  <a:pt x="147" y="264"/>
                </a:lnTo>
                <a:lnTo>
                  <a:pt x="147" y="0"/>
                </a:lnTo>
                <a:lnTo>
                  <a:pt x="0" y="1"/>
                </a:lnTo>
                <a:lnTo>
                  <a:pt x="3" y="700"/>
                </a:lnTo>
                <a:lnTo>
                  <a:pt x="147" y="697"/>
                </a:lnTo>
                <a:lnTo>
                  <a:pt x="147" y="424"/>
                </a:lnTo>
                <a:lnTo>
                  <a:pt x="2311" y="427"/>
                </a:lnTo>
                <a:lnTo>
                  <a:pt x="2304" y="26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54320" y="4152960"/>
            <a:ext cx="434880" cy="625320"/>
            <a:chOff x="2254320" y="4152960"/>
            <a:chExt cx="434880" cy="625320"/>
          </a:xfrm>
        </p:grpSpPr>
        <p:sp>
          <p:nvSpPr>
            <p:cNvPr id="134" name=""/>
            <p:cNvSpPr/>
            <p:nvPr/>
          </p:nvSpPr>
          <p:spPr>
            <a:xfrm>
              <a:off x="2254320" y="4152960"/>
              <a:ext cx="434880" cy="468360"/>
            </a:xfrm>
            <a:prstGeom prst="ellipse">
              <a:avLst/>
            </a:prstGeom>
            <a:solidFill>
              <a:srgbClr val="c0c0c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9320" y="4610160"/>
              <a:ext cx="155520" cy="1681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455920" y="4175280"/>
              <a:ext cx="777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65640" y="5167440"/>
            <a:ext cx="947880" cy="16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0320" y="5605560"/>
            <a:ext cx="947880" cy="16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9720" y="5229360"/>
            <a:ext cx="1027080" cy="446040"/>
          </a:xfrm>
          <a:prstGeom prst="leftArrow">
            <a:avLst>
              <a:gd name="adj1" fmla="val 50000"/>
              <a:gd name="adj2" fmla="val 575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5160" y="208080"/>
            <a:ext cx="7772400" cy="78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low Rates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42720"/>
            <a:ext cx="777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low rate = Volume / tim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.e. CFM (L/min, cu-in/se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low Controls - Valve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lenoid Valu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ck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ief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Control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nintended Flow Restrictions: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rrow Pass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Fri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ssure drops while it is flowing due to restri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lectrical Analog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Pressure = Voltag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olume = Capacitanc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low rate = Curren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low Restrictions = Resistanc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OWEVER: Air is compressibl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=&gt; Some unique non-linearities when compared to electrical system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chanical Power &amp; Wor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ork = Force x Distance  (in-lb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so Work = Torque x Rev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chanical Energy is always involved in doing wo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 is transferred or convert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= Work / Time  (in-lb/s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Energy /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Concep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far a resisting object can be moved in a given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power rating of motors is what allows us to determine which ones can be used for a given jo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rating for pneumatic actuators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pends greatly on the rest of the pneumatic 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7:19Z</dcterms:created>
  <dc:creator>FIRST Place</dc:creator>
  <dc:description/>
  <dc:language>en-US</dc:language>
  <cp:lastModifiedBy>CMIC15</cp:lastModifiedBy>
  <dcterms:modified xsi:type="dcterms:W3CDTF">2008-04-16T21:06:53Z</dcterms:modified>
  <cp:revision>40</cp:revision>
  <dc:subject/>
  <dc:title>Volunteer Pos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59804771</vt:r8>
  </property>
  <property fmtid="{D5CDD505-2E9C-101B-9397-08002B2CF9AE}" pid="3" name="_AuthorEmail">
    <vt:lpwstr>Raul@motorola.com</vt:lpwstr>
  </property>
  <property fmtid="{D5CDD505-2E9C-101B-9397-08002B2CF9AE}" pid="4" name="_AuthorEmailDisplayName">
    <vt:lpwstr>Olivera Raul-CMIC15</vt:lpwstr>
  </property>
  <property fmtid="{D5CDD505-2E9C-101B-9397-08002B2CF9AE}" pid="5" name="_EmailSubject">
    <vt:lpwstr>Congratulations on great presentations!</vt:lpwstr>
  </property>
  <property fmtid="{D5CDD505-2E9C-101B-9397-08002B2CF9AE}" pid="6" name="_NewReviewCycle">
    <vt:lpwstr/>
  </property>
</Properties>
</file>