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04D-29B4-4C86-93B8-0992AD7D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902-D2B1-4304-90FA-1F6E1EF9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6F0-5561-45A2-827C-3D5A0617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0D5-1935-47BD-9A6B-DA152083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42F8-C3C6-436D-86D6-1DD06704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6514-5A17-49F2-8313-FA2ED690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F7C8-82A4-4C2C-A29A-CD1CE855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E797-C00F-4B1D-AF6E-97A28190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5272-D2D1-49E2-94EF-DA19FBB1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B524-5C36-4F70-BB2D-1ED358D5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E54-6367-42D6-A863-4BFCFAAE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590-5CA0-415C-90D0-B32A2C25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D206-97AF-4750-8CE7-2EB9C4E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742-5C44-42B0-8A99-CD0310BC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3429-D34A-44E8-864D-15596C9C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603E-38B2-44F3-8667-A0B87E46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4964-6D41-42A8-9366-5D61A922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D8B-7BC9-4F1A-97E4-A21DF048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DE4-9F95-4C7B-A4F2-FD1FA32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9B7-7F35-474C-BD8F-963A8CB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02A-DD0D-4B50-975A-651C126B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D6C-09CC-4E58-81EB-276B77B4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257-3626-4CBC-B922-28263FA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E19-6DDC-47B3-8010-206548A4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CA4B-EF4E-41F0-9CAE-2E2AC550DA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64EF-E814-46CA-B004-D1FE39E4A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Mechanism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Ventimi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PI Student, Team 1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w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81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6294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w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6531" t="2399" r="0" b="5468"/>
          <a:stretch/>
        </p:blipFill>
        <p:spPr>
          <a:xfrm>
            <a:off x="1371600" y="1752480"/>
            <a:ext cx="688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w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b very large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b strangely shape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est to build without machine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best with pneu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up large volume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good drivers and careful pos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ick up one object at a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122" t="21306" r="42194" b="7806"/>
          <a:stretch/>
        </p:blipFill>
        <p:spPr>
          <a:xfrm>
            <a:off x="609480" y="1295280"/>
            <a:ext cx="215928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33362" t="14778" r="18112" b="0"/>
          <a:stretch/>
        </p:blipFill>
        <p:spPr>
          <a:xfrm>
            <a:off x="6172200" y="1981080"/>
            <a:ext cx="2666880" cy="3514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9375" t="0" r="46881" b="9904"/>
          <a:stretch/>
        </p:blipFill>
        <p:spPr>
          <a:xfrm>
            <a:off x="3352680" y="1828800"/>
            <a:ext cx="2438640" cy="35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rcRect l="0" t="25761" r="47405" b="17098"/>
          <a:stretch/>
        </p:blipFill>
        <p:spPr>
          <a:xfrm>
            <a:off x="457200" y="4191120"/>
            <a:ext cx="26290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xed Devic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S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imply shaped device that interacts with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only if object has something to grasp o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rcRect l="20955" t="2632" r="0" b="0"/>
          <a:stretch/>
        </p:blipFill>
        <p:spPr>
          <a:xfrm>
            <a:off x="533520" y="1828800"/>
            <a:ext cx="417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xed Devic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weigh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weight to make other parts work be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moving parts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apest and easiest to manuf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work with certain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es upon skill of driver and specific set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oom for adaptability in a m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rms (rotational lift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4120" y="18288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 of one or more points of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pulator on the end of an 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atile and eff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 objects high sim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rcRect l="1301" t="10389" r="7792" b="13424"/>
          <a:stretch/>
        </p:blipFill>
        <p:spPr>
          <a:xfrm>
            <a:off x="228600" y="213372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rms (rotational lift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3942" t="8269" r="4926" b="3762"/>
          <a:stretch/>
        </p:blipFill>
        <p:spPr>
          <a:xfrm>
            <a:off x="533520" y="2133720"/>
            <a:ext cx="4038480" cy="3889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13217" t="0" r="16666" b="0"/>
          <a:stretch/>
        </p:blipFill>
        <p:spPr>
          <a:xfrm>
            <a:off x="5105520" y="1600200"/>
            <a:ext cx="347652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houlder Joi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19906" t="0" r="20874" b="0"/>
          <a:stretch/>
        </p:blipFill>
        <p:spPr>
          <a:xfrm>
            <a:off x="914400" y="2057400"/>
            <a:ext cx="3463920" cy="4400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6785" t="0" r="13571" b="3548"/>
          <a:stretch/>
        </p:blipFill>
        <p:spPr>
          <a:xfrm>
            <a:off x="4724280" y="2057400"/>
            <a:ext cx="3843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verview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anipulating Game Object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llec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ake Ro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y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, passiv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on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s (rota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ing li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bar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dding a Wri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7707" t="4513" r="7707" b="7648"/>
          <a:stretch/>
        </p:blipFill>
        <p:spPr>
          <a:xfrm>
            <a:off x="914400" y="2590920"/>
            <a:ext cx="4495680" cy="2678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35096" t="0" r="31369" b="6016"/>
          <a:stretch/>
        </p:blipFill>
        <p:spPr>
          <a:xfrm>
            <a:off x="6019920" y="1447920"/>
            <a:ext cx="1654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15337" t="7145" r="21317" b="8269"/>
          <a:stretch/>
        </p:blipFill>
        <p:spPr>
          <a:xfrm>
            <a:off x="1219320" y="304920"/>
            <a:ext cx="2262240" cy="3200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4752" t="9918" r="11492" b="3505"/>
          <a:stretch/>
        </p:blipFill>
        <p:spPr>
          <a:xfrm>
            <a:off x="4267080" y="598320"/>
            <a:ext cx="4496040" cy="2791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rcRect l="0" t="5112" r="0" b="1903"/>
          <a:stretch/>
        </p:blipFill>
        <p:spPr>
          <a:xfrm>
            <a:off x="533520" y="3809880"/>
            <a:ext cx="4943520" cy="2760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rcRect l="17945" t="0" r="22957" b="9117"/>
          <a:stretch/>
        </p:blipFill>
        <p:spPr>
          <a:xfrm>
            <a:off x="6019920" y="3657600"/>
            <a:ext cx="2201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rms (rotational lift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ly reliable for most he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oulder and wrist provide excellent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reach over robots and still fold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built simp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st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ocket and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high strength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raise CG too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fit into starting size li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require careful strategy not to hurt other rob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30591" t="13050" r="19501" b="0"/>
          <a:stretch/>
        </p:blipFill>
        <p:spPr>
          <a:xfrm>
            <a:off x="380880" y="2057400"/>
            <a:ext cx="2509920" cy="3281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24378" t="3816" r="15837" b="6441"/>
          <a:stretch/>
        </p:blipFill>
        <p:spPr>
          <a:xfrm>
            <a:off x="5867280" y="2057400"/>
            <a:ext cx="2927520" cy="3276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>
            <a:lum bright="12000"/>
          </a:blip>
          <a:srcRect l="8334" t="0" r="2082" b="0"/>
          <a:stretch/>
        </p:blipFill>
        <p:spPr>
          <a:xfrm>
            <a:off x="3124080" y="1828800"/>
            <a:ext cx="250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lescop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ing sections that move linea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powered by a winch pulling on a c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the front of a forkl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>
            <a:lum bright="6000"/>
          </a:blip>
          <a:srcRect l="22730" t="0" r="15153" b="0"/>
          <a:stretch/>
        </p:blipFill>
        <p:spPr>
          <a:xfrm>
            <a:off x="1447920" y="1295280"/>
            <a:ext cx="2484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723600"/>
            <a:ext cx="38862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images from Greg Needel’s presentation on the FIRST website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505320" y="533412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5791320"/>
            <a:ext cx="19047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334120"/>
            <a:ext cx="380880" cy="3808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5562720"/>
            <a:ext cx="152280" cy="1522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5181480"/>
            <a:ext cx="152640" cy="15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5334120"/>
            <a:ext cx="380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5334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715000"/>
            <a:ext cx="1371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4495680"/>
            <a:ext cx="1980720" cy="1295280"/>
            <a:chOff x="457200" y="4495680"/>
            <a:chExt cx="1980720" cy="1295280"/>
          </a:xfrm>
        </p:grpSpPr>
        <p:sp>
          <p:nvSpPr>
            <p:cNvPr id="228" name=""/>
            <p:cNvSpPr/>
            <p:nvPr/>
          </p:nvSpPr>
          <p:spPr>
            <a:xfrm>
              <a:off x="1981080" y="5333760"/>
              <a:ext cx="4568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5714640"/>
              <a:ext cx="152388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4495680"/>
              <a:ext cx="1371240" cy="121896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00600" y="0"/>
            <a:ext cx="3809880" cy="6248520"/>
            <a:chOff x="4800600" y="0"/>
            <a:chExt cx="3809880" cy="6248520"/>
          </a:xfrm>
        </p:grpSpPr>
        <p:sp>
          <p:nvSpPr>
            <p:cNvPr id="232" name=""/>
            <p:cNvSpPr/>
            <p:nvPr/>
          </p:nvSpPr>
          <p:spPr>
            <a:xfrm flipV="1">
              <a:off x="7848720" y="5334120"/>
              <a:ext cx="685800" cy="457200"/>
            </a:xfrm>
            <a:custGeom>
              <a:avLst/>
              <a:gdLst>
                <a:gd name="textAreaLeft" fmla="*/ 150840 w 685800"/>
                <a:gd name="textAreaRight" fmla="*/ 534960 w 68580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98d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5720" y="5791320"/>
              <a:ext cx="190476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5720" y="59436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05920" y="59436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01000" y="5334120"/>
              <a:ext cx="380880" cy="3808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05720" y="5562720"/>
              <a:ext cx="15228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480" y="5181480"/>
              <a:ext cx="152640" cy="15264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01000" y="533412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43800" y="533412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81680" y="5715000"/>
              <a:ext cx="13716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2057400"/>
              <a:ext cx="152640" cy="2362320"/>
            </a:xfrm>
            <a:prstGeom prst="rect">
              <a:avLst/>
            </a:prstGeom>
            <a:solidFill>
              <a:srgbClr val="f98d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1680" y="838080"/>
              <a:ext cx="152640" cy="2362320"/>
            </a:xfrm>
            <a:prstGeom prst="rect">
              <a:avLst/>
            </a:prstGeom>
            <a:solidFill>
              <a:srgbClr val="f98d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8880" y="3429000"/>
              <a:ext cx="152640" cy="2362320"/>
            </a:xfrm>
            <a:prstGeom prst="rect">
              <a:avLst/>
            </a:prstGeom>
            <a:solidFill>
              <a:srgbClr val="f98d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4800600" y="0"/>
              <a:ext cx="1980720" cy="1295280"/>
              <a:chOff x="4800600" y="0"/>
              <a:chExt cx="1980720" cy="1295280"/>
            </a:xfrm>
          </p:grpSpPr>
          <p:sp>
            <p:nvSpPr>
              <p:cNvPr id="246" name=""/>
              <p:cNvSpPr/>
              <p:nvPr/>
            </p:nvSpPr>
            <p:spPr>
              <a:xfrm>
                <a:off x="6324480" y="838080"/>
                <a:ext cx="4568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00600" y="1218960"/>
                <a:ext cx="1523880" cy="76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00600" y="0"/>
                <a:ext cx="1371240" cy="1218960"/>
              </a:xfrm>
              <a:prstGeom prst="flowChartExtra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62520" y="533412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5791320"/>
            <a:ext cx="19047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5334120"/>
            <a:ext cx="380880" cy="3808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5562720"/>
            <a:ext cx="152280" cy="1522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5320" y="5181480"/>
            <a:ext cx="152280" cy="15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5334120"/>
            <a:ext cx="380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53341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5715000"/>
            <a:ext cx="1371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2133720"/>
            <a:ext cx="152640" cy="236196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83808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526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505320" y="518076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ce157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819520" y="556164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ce157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819520" y="2285640"/>
            <a:ext cx="0" cy="33526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352680" y="3505320"/>
            <a:ext cx="152640" cy="152280"/>
            <a:chOff x="3352680" y="3505320"/>
            <a:chExt cx="152640" cy="152280"/>
          </a:xfrm>
        </p:grpSpPr>
        <p:sp>
          <p:nvSpPr>
            <p:cNvPr id="267" name=""/>
            <p:cNvSpPr/>
            <p:nvPr/>
          </p:nvSpPr>
          <p:spPr>
            <a:xfrm>
              <a:off x="3352680" y="350532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53040" y="35053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352680" y="35053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124080" y="4343040"/>
            <a:ext cx="152640" cy="152280"/>
            <a:chOff x="3124080" y="4343040"/>
            <a:chExt cx="152640" cy="152280"/>
          </a:xfrm>
        </p:grpSpPr>
        <p:sp>
          <p:nvSpPr>
            <p:cNvPr id="271" name=""/>
            <p:cNvSpPr/>
            <p:nvPr/>
          </p:nvSpPr>
          <p:spPr>
            <a:xfrm flipV="1">
              <a:off x="3124080" y="434268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124440" y="4343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124080" y="4343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124080" y="2209680"/>
            <a:ext cx="152640" cy="152280"/>
            <a:chOff x="3124080" y="2209680"/>
            <a:chExt cx="152640" cy="152280"/>
          </a:xfrm>
        </p:grpSpPr>
        <p:sp>
          <p:nvSpPr>
            <p:cNvPr id="275" name=""/>
            <p:cNvSpPr/>
            <p:nvPr/>
          </p:nvSpPr>
          <p:spPr>
            <a:xfrm>
              <a:off x="3124080" y="220968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440" y="220968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124080" y="220968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95480" y="3047760"/>
            <a:ext cx="152640" cy="152280"/>
            <a:chOff x="2895480" y="3047760"/>
            <a:chExt cx="152640" cy="152280"/>
          </a:xfrm>
        </p:grpSpPr>
        <p:sp>
          <p:nvSpPr>
            <p:cNvPr id="279" name=""/>
            <p:cNvSpPr/>
            <p:nvPr/>
          </p:nvSpPr>
          <p:spPr>
            <a:xfrm flipV="1">
              <a:off x="2895480" y="304740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895840" y="30481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895480" y="30481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895480" y="914400"/>
            <a:ext cx="152640" cy="152280"/>
            <a:chOff x="2895480" y="914400"/>
            <a:chExt cx="152640" cy="152280"/>
          </a:xfrm>
        </p:grpSpPr>
        <p:sp>
          <p:nvSpPr>
            <p:cNvPr id="283" name=""/>
            <p:cNvSpPr/>
            <p:nvPr/>
          </p:nvSpPr>
          <p:spPr>
            <a:xfrm>
              <a:off x="2895480" y="91440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840" y="914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95480" y="914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2819160" y="990720"/>
            <a:ext cx="7596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95480" y="990720"/>
            <a:ext cx="152640" cy="2133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047760" y="2286000"/>
            <a:ext cx="7596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124080" y="2286000"/>
            <a:ext cx="152640" cy="2133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276360" y="3581280"/>
            <a:ext cx="75960" cy="838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358128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848720" y="533412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791320"/>
            <a:ext cx="19047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059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334120"/>
            <a:ext cx="380880" cy="3808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5562720"/>
            <a:ext cx="152280" cy="1522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1520" y="5181480"/>
            <a:ext cx="152280" cy="15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5334120"/>
            <a:ext cx="380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67480" y="53341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5715000"/>
            <a:ext cx="9903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0280" y="2133720"/>
            <a:ext cx="152640" cy="236196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83808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7391520" y="518076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ce157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086600" y="5561640"/>
            <a:ext cx="1519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ce157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3581280"/>
            <a:ext cx="0" cy="1752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86600" y="4495320"/>
            <a:ext cx="0" cy="1143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238880" y="3505320"/>
            <a:ext cx="152640" cy="152280"/>
            <a:chOff x="7238880" y="3505320"/>
            <a:chExt cx="152640" cy="152280"/>
          </a:xfrm>
        </p:grpSpPr>
        <p:sp>
          <p:nvSpPr>
            <p:cNvPr id="310" name=""/>
            <p:cNvSpPr/>
            <p:nvPr/>
          </p:nvSpPr>
          <p:spPr>
            <a:xfrm>
              <a:off x="7238880" y="350532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9240" y="35053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238880" y="35053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010280" y="2209680"/>
            <a:ext cx="152640" cy="152280"/>
            <a:chOff x="7010280" y="2209680"/>
            <a:chExt cx="152640" cy="152280"/>
          </a:xfrm>
        </p:grpSpPr>
        <p:sp>
          <p:nvSpPr>
            <p:cNvPr id="314" name=""/>
            <p:cNvSpPr/>
            <p:nvPr/>
          </p:nvSpPr>
          <p:spPr>
            <a:xfrm>
              <a:off x="7010280" y="220968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0640" y="220968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010280" y="220968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781680" y="914400"/>
            <a:ext cx="152640" cy="152280"/>
            <a:chOff x="6781680" y="914400"/>
            <a:chExt cx="152640" cy="152280"/>
          </a:xfrm>
        </p:grpSpPr>
        <p:sp>
          <p:nvSpPr>
            <p:cNvPr id="318" name=""/>
            <p:cNvSpPr/>
            <p:nvPr/>
          </p:nvSpPr>
          <p:spPr>
            <a:xfrm>
              <a:off x="6781680" y="91440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2040" y="914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781680" y="914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 flipH="1">
            <a:off x="6705360" y="990720"/>
            <a:ext cx="7596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990720"/>
            <a:ext cx="1522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857640" y="2286000"/>
            <a:ext cx="15228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2920" y="2286000"/>
            <a:ext cx="1522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162560" y="3581280"/>
            <a:ext cx="75960" cy="838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14400" y="990720"/>
            <a:ext cx="1980720" cy="1295280"/>
            <a:chOff x="914400" y="990720"/>
            <a:chExt cx="1980720" cy="1295280"/>
          </a:xfrm>
        </p:grpSpPr>
        <p:sp>
          <p:nvSpPr>
            <p:cNvPr id="327" name=""/>
            <p:cNvSpPr/>
            <p:nvPr/>
          </p:nvSpPr>
          <p:spPr>
            <a:xfrm>
              <a:off x="2438280" y="1828800"/>
              <a:ext cx="4568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" y="2209680"/>
              <a:ext cx="152388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14400" y="990720"/>
              <a:ext cx="1371240" cy="121896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800600" y="914400"/>
            <a:ext cx="1980720" cy="1295280"/>
            <a:chOff x="4800600" y="914400"/>
            <a:chExt cx="1980720" cy="1295280"/>
          </a:xfrm>
        </p:grpSpPr>
        <p:sp>
          <p:nvSpPr>
            <p:cNvPr id="331" name=""/>
            <p:cNvSpPr/>
            <p:nvPr/>
          </p:nvSpPr>
          <p:spPr>
            <a:xfrm>
              <a:off x="6324480" y="1752480"/>
              <a:ext cx="4568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00600" y="2133360"/>
              <a:ext cx="152388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914400"/>
              <a:ext cx="1371240" cy="121896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lescop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extend very far with little space consu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le linear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for driver to think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powered by a wi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ming, they jam, and jamming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being stored in a long straight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handle bending loads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14613" t="6850" r="21463" b="5479"/>
          <a:stretch/>
        </p:blipFill>
        <p:spPr>
          <a:xfrm>
            <a:off x="533520" y="1828800"/>
            <a:ext cx="2251080" cy="4114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32882" t="0" r="12647" b="33337"/>
          <a:stretch/>
        </p:blipFill>
        <p:spPr>
          <a:xfrm>
            <a:off x="3048120" y="2666880"/>
            <a:ext cx="2666880" cy="2438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rcRect l="3122" t="0" r="42194" b="11146"/>
          <a:stretch/>
        </p:blipFill>
        <p:spPr>
          <a:xfrm>
            <a:off x="5943600" y="1981080"/>
            <a:ext cx="26668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-Bar linkag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rcRect l="10625" t="8752" r="14372" b="2498"/>
          <a:stretch/>
        </p:blipFill>
        <p:spPr>
          <a:xfrm>
            <a:off x="1981080" y="1752480"/>
            <a:ext cx="53341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ook at your object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se questio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heav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take up a large sp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fragi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orientation ma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it? (floor, platform, human play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721800"/>
            <a:ext cx="460548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images from Greg Needel’s presentation on the FIRST website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5791320"/>
            <a:ext cx="1905120" cy="1522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594360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594360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518148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3429000"/>
            <a:ext cx="152280" cy="23623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8339600">
            <a:off x="2523960" y="4276440"/>
            <a:ext cx="2286000" cy="1335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8339600">
            <a:off x="2504880" y="4581360"/>
            <a:ext cx="2286000" cy="1335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5720" y="5791320"/>
            <a:ext cx="1904760" cy="1522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5943600"/>
            <a:ext cx="30456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05920" y="5943600"/>
            <a:ext cx="30456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3429000"/>
            <a:ext cx="152640" cy="23623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81680" y="160020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 rot="3260400">
            <a:off x="6715080" y="2523600"/>
            <a:ext cx="2286000" cy="13320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 rot="3260400">
            <a:off x="6696000" y="2828160"/>
            <a:ext cx="2286000" cy="13320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518148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14400" y="5029200"/>
            <a:ext cx="1676520" cy="990720"/>
            <a:chOff x="914400" y="5029200"/>
            <a:chExt cx="1676520" cy="990720"/>
          </a:xfrm>
        </p:grpSpPr>
        <p:sp>
          <p:nvSpPr>
            <p:cNvPr id="361" name=""/>
            <p:cNvSpPr/>
            <p:nvPr/>
          </p:nvSpPr>
          <p:spPr>
            <a:xfrm>
              <a:off x="914400" y="5029200"/>
              <a:ext cx="1143000" cy="99072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5181480"/>
              <a:ext cx="1067040" cy="76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81480" y="1447920"/>
            <a:ext cx="1676520" cy="990360"/>
            <a:chOff x="5181480" y="1447920"/>
            <a:chExt cx="1676520" cy="990360"/>
          </a:xfrm>
        </p:grpSpPr>
        <p:sp>
          <p:nvSpPr>
            <p:cNvPr id="364" name=""/>
            <p:cNvSpPr/>
            <p:nvPr/>
          </p:nvSpPr>
          <p:spPr>
            <a:xfrm>
              <a:off x="5181480" y="1447920"/>
              <a:ext cx="1143000" cy="99036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90960" y="1599840"/>
              <a:ext cx="1067040" cy="75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-Bar (rotational lift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orientation of arm and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motion from a simple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to imp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ange of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moving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center togg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links can require lots of tor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sign Sele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igh does the object need to be lif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with 1 joint vs. elevator with 1 section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robot need to fit under an obsta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folded down vs. telescoping arm with a piv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weight and space is there for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veyor system blocks half the robot vs. must weigh less than 10lbs and lift 10ft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ioritize fir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ateri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les, pins, b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al shapes, plates, ax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parts, complex shapes, c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ansmis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ockets and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5, #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20 pitch to ~12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thane round be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belts and timing pull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st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end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master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ransmission parts and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metal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struc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dp-si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ebot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rbo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otmarketplac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rbo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Dep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mounts of aluminum tub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cc00"/>
                </a:solidFill>
                <a:uFillTx/>
                <a:latin typeface="Arial Black"/>
              </a:rPr>
              <a:t>Questions?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41911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uper excited about mechanism build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ake Roll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ng cylinders designed to contact and move your gam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ly used to pick up balls from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tal or ver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rcRect l="1565" t="6116" r="45316" b="0"/>
          <a:stretch/>
        </p:blipFill>
        <p:spPr>
          <a:xfrm>
            <a:off x="1447920" y="1752480"/>
            <a:ext cx="25905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ake Roll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029200" cy="282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0" t="13116" r="8099" b="27869"/>
          <a:stretch/>
        </p:blipFill>
        <p:spPr>
          <a:xfrm>
            <a:off x="2133720" y="4724280"/>
            <a:ext cx="5029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ake Roll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up multiple objects quic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room for driver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parts to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best for b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yors difficult to stay on relia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j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chassis space near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y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with rollers at picking up and MOVING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lat, wide, moving be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es of smaller belts in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rcRect l="22579" t="8547" r="3223" b="10888"/>
          <a:stretch/>
        </p:blipFill>
        <p:spPr>
          <a:xfrm>
            <a:off x="4952880" y="1600200"/>
            <a:ext cx="3505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35199" t="5456" r="0" b="0"/>
          <a:stretch/>
        </p:blipFill>
        <p:spPr>
          <a:xfrm>
            <a:off x="533520" y="1981080"/>
            <a:ext cx="2525760" cy="3962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4687" t="3048" r="40629" b="0"/>
          <a:stretch/>
        </p:blipFill>
        <p:spPr>
          <a:xfrm>
            <a:off x="6324480" y="1905120"/>
            <a:ext cx="2667240" cy="424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4687" t="0" r="37506" b="0"/>
          <a:stretch/>
        </p:blipFill>
        <p:spPr>
          <a:xfrm>
            <a:off x="3276720" y="1752480"/>
            <a:ext cx="28191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w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ndages which open and close to grasp onto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gers” rotating to close around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gers” move towards each other to clamp onto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orientation, can pick up almost 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rcRect l="24378" t="1912" r="15837" b="2625"/>
          <a:stretch/>
        </p:blipFill>
        <p:spPr>
          <a:xfrm>
            <a:off x="838080" y="1752480"/>
            <a:ext cx="3584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23:18:39Z</dcterms:created>
  <dc:creator>FIRST Place</dc:creator>
  <dc:description/>
  <dc:language>en-US</dc:language>
  <cp:lastModifiedBy>FIRST Place</cp:lastModifiedBy>
  <dcterms:modified xsi:type="dcterms:W3CDTF">2007-01-05T13:19:19Z</dcterms:modified>
  <cp:revision>91</cp:revision>
  <dc:subject/>
  <dc:title>Mechanisms</dc:title>
</cp:coreProperties>
</file>