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950-2106-4485-975A-455F692A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545-4629-4A2B-AB62-D7A9183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398-FDA2-4646-985A-CF5D50DA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CB9-1A2C-43E2-95E0-FB788254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6ACCC-DB5F-4AFA-971B-19581BCAC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9E862-7996-4DB3-AE4F-25C7F83ECC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57E61-53DE-4D7D-BF5E-8AB7337137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1E1D-23B9-4E36-9509-8C9F40FB5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BD161-C974-4F39-9908-F61FFA355E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4FCC-5908-4FA6-8D57-F4B55A78B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4DA8-1B02-4F5B-BC4E-F339447F4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700-01FA-4D65-8AFB-848A5FC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39D98-9B62-485E-BC6B-6D659265D2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4FD5-0390-4450-AB78-50D708C204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D0300-C9AB-48AB-9BC1-B5B0D93DA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3B027-77E4-4755-85D8-B51C56727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AE381-4251-436E-AF0C-0A94CEC49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FC3-BD7F-4B62-B431-436FEA55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E62-85F4-4349-8084-6F6D4B6A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C21-21B2-4DAD-A2A1-2291C06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58F-DFC6-45A2-B994-19A4C2D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12C-7407-40C6-A982-5224A8B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C49-4188-476C-AD89-0124AAD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6E8-1784-4DA7-B895-EF3F769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BAAA-0327-4C34-A7D9-FD864BF466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5053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50D-63C5-4049-8237-8328ED53CE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8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8600" y="5746680"/>
            <a:ext cx="1189080" cy="103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601344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dd00"/>
                </a:solidFill>
                <a:latin typeface="Century Gothic"/>
              </a:rPr>
              <a:t>501(c)(3)</a:t>
            </a:r>
            <a:br>
              <a:rPr sz="6600"/>
            </a:br>
            <a:r>
              <a:rPr b="1" lang="en-US" sz="6600" spc="-1" strike="noStrike">
                <a:solidFill>
                  <a:srgbClr val="00dd00"/>
                </a:solidFill>
                <a:latin typeface="Century Gothic"/>
              </a:rPr>
              <a:t>Nonprofit Status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at is it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o We Need It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Do We Get I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6386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Perrotto and Bill Enslen, Team 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btain Tax ID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727280"/>
            <a:ext cx="830556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mployee Identific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donors for tax de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from the 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SS-4 availab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rs.gov/charities/article/0,,id=96109,00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Apply for Recognition of Exe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838188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RS Form 1023 with $500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rs.gov/charities/article/0,,id=96109,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, FAQs also available at sa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our completed form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ttachment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-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of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year financial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rais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of incorporation - (see instru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of directors and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- usually 2-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Top Ten Reasons for Delays in Processing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77880"/>
            <a:ext cx="83818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financial da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month does the annual accounting period end? Does the fiscal year ending date stated on the application agree with the fiscal year ending date stated in the by-laws, on the financial statements,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provide the required information on the principal officers and board of directo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provide enough information on the activities to show us how your exempt purpose will be achieved? Please don't restate your purpo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mplete all required schedules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dd00"/>
                </a:solidFill>
                <a:latin typeface="Century Gothic"/>
              </a:rPr>
              <a:t>Top Ten Reasons for Delays in Processing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8077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mplete all required pag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an authorized individual sign the Form 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dopted by-laws, did you submit a co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ttach a complete copy of your organizing document and all amendm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son for delays in processing exempt organization applications i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RECT OR NO USER FE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rs.gov/charities/article/0,,id=96361,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ther Stat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741320"/>
            <a:ext cx="754380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s charity with state - not alway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sales tax ex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748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ales tax on corporation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7480">
              <a:lnSpc>
                <a:spcPct val="15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s GREATLY b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Hooray!  You’ve Got Your Exemption Letter.  What’s Next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reasurer is not an accoun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a student whose parent is an accoun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accountant who nee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 bo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to become a C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 young, single mentor to hang out at bars frequented by people who work at accounting fi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out in the lobby of an accounting firm until they agree to file your tax 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example of others who have gone before y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Keeping The Book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s small as your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your system as your team gr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buy a software packa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tart to outgrow your home-grow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the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ckage should you bu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is avail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makes sense to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htree Software makes an affordable non-profit pa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Reporting to Your B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income and expendi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eriod and YT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ed amounts for current period and YT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meeting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udget for next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eeting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for an audit of th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Filing Annual Information Retur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Revenue Service 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Form 990 or 990-EZ, and Schedule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nd instructions online separ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rs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3 months and 15 days after end of fiscal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3 month extension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 88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ublication 4221 for recordkeeping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Annual State Franchise Ta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nd filing requirements vary with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has flat $25 fee for nonpro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filing may be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gnore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lties for failure to fi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057400"/>
            <a:ext cx="79246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ers are not attorneys or IRS representatives, so the general information provided in this presentation should not be construed as legal advice for your specifi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Corporate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sk for Your Tax ID Number (E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W-9 – Request for taxpayer identification number and certification – can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sk for Tax ID before contribu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igned version han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acknowledgement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f $250 or more don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onta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ach cash con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(but not value) of any non-cash contrib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you provided any goods or services in return, and if so, the value of the goods and/or services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Individual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a W-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acknowledgement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f $250 or more don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onta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ach cash con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(but not value) of any non-cash contrib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you provided any goods or services in return, and if so, the value of the goods and/or services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include your Tax ID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tim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by January 31 of year following con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All Don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tudents to write a thank you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rom and in addition to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mandated acknowledgement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ir experiences this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ote of team accomplish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m for thei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team picture for the larger contribu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Online Help Avail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moe365.org/moeu.ph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irs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nd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d00"/>
                </a:solidFill>
                <a:latin typeface="Arial"/>
              </a:rPr>
              <a:t>www.irs.gov/charities/article/0,,id=96109,00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pro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needed for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Questions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What’s a 501(c)(3), anyway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speaking, it is a non-profit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ly speaking, it is a section of the Internal Revenue Code of 198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he requirements for tax-exempt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particular types of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C teams qualify as publicly suppor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fit educational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Do You Need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35200"/>
            <a:ext cx="792468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sponsored by a school or church, or other IRS-recognized nonprofit organization don’t ne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ing organization already i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tatus applies to subsidiary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teams should ge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donations tax-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35100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team member travel expen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-deductible regardless of how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How Do You Ge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3162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work, but no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lides and attachment availabl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moe365.org/moeu.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72872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board of directors and/or offi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y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rticles of incorporation with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system for record keeping and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 taxpayer identification number from the 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recognition of tax-exempt status from the 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t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Basic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709640"/>
            <a:ext cx="83818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 in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t stand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/Treas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board members, including student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Choose Your Board of Directors</a:t>
            </a:r>
            <a:br>
              <a:rPr sz="4000"/>
            </a:b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and Offi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dd00"/>
                </a:solidFill>
                <a:latin typeface="Century Gothic"/>
              </a:rPr>
              <a:t>Write By-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24040"/>
            <a:ext cx="7543800" cy="49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 in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samp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fication of officers and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ution of corporation -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File Articles of Incorporation</a:t>
            </a:r>
            <a:br>
              <a:rPr sz="4000"/>
            </a:br>
            <a:r>
              <a:rPr b="1" lang="en-US" sz="4000" spc="-1" strike="noStrike">
                <a:solidFill>
                  <a:srgbClr val="00dd00"/>
                </a:solidFill>
                <a:latin typeface="Century Gothic"/>
              </a:rPr>
              <a:t>With Your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676520"/>
            <a:ext cx="754380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b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be called Business Registration or 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state websi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www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gov or www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bre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s available on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non-profit statu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help useful but not requi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 state bar associa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 bo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corporate name, address (not a P.O.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$25-$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3:08:17Z</dcterms:created>
  <dc:creator>Bill Enslen</dc:creator>
  <dc:description/>
  <dc:language>en-US</dc:language>
  <cp:lastModifiedBy>Wendy L. Trommer</cp:lastModifiedBy>
  <dcterms:modified xsi:type="dcterms:W3CDTF">2006-07-25T15:27:17Z</dcterms:modified>
  <cp:revision>21</cp:revision>
  <dc:subject/>
  <dc:title>Slide 1</dc:title>
</cp:coreProperties>
</file>