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4FF-0606-44A9-A1E3-C0DD09E7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69E-690A-40BD-B23B-992DCE58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E55-9849-4CC6-9740-DB4C495F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0FB-C122-4465-843D-62C1BDA5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BADA4-7560-45ED-A3A2-C2BB0BF989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C37EA-72D5-4BC1-A86C-3CA3454474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A02BB-36F5-4ED3-BABE-E893BF70C0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14C51-6ECD-4D83-9C8B-ECA78D7223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D1D26-2B27-40B5-BD02-9B8EBDE63F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DB9EC-2855-4F27-8FEC-69B703A8DA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012D8-5504-4767-BA5C-43937FB80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B04-4946-4B1A-8B33-64426A91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919AE-7C94-45A3-AA3A-7934E732F8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071F8-4824-487D-96A3-3559F905A4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63C2B-9604-4F05-8762-6B1B432857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B4B0D-F9BF-460A-9EAC-9AE41DD6EB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BAF21-9F84-4A1B-8341-42258D9AA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802-4464-4573-85C1-0140B7EF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E11-90E4-4F09-B584-710634BB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F5D-6F50-43C4-8844-4FE8329B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B3A-C9C3-48DD-BBF9-E153A5CF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3C2-0CC1-487F-8171-6B868107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0A4-59E6-41C4-A2FD-DCF7B0A5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3E5-F460-497D-9CF5-1B33F10E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2ACF-7238-4D59-A7AF-51E51F3D0F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35053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2796-092C-4A60-A5A0-FC393E99D98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8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8600" y="5746680"/>
            <a:ext cx="1189080" cy="103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" y="6013440"/>
            <a:ext cx="1981080" cy="615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dd00"/>
                </a:solidFill>
                <a:latin typeface="Century Gothic"/>
              </a:rPr>
              <a:t>501(c)(3)</a:t>
            </a:r>
            <a:br>
              <a:rPr sz="6600"/>
            </a:br>
            <a:r>
              <a:rPr b="1" lang="en-US" sz="6600" spc="-1" strike="noStrike">
                <a:solidFill>
                  <a:srgbClr val="00dd00"/>
                </a:solidFill>
                <a:latin typeface="Century Gothic"/>
              </a:rPr>
              <a:t>Nonprofit Status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at is it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o We Need It, a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How Do We Get I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63868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Perrotto and Bill Enslen, Team 3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Obtain Tax ID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727280"/>
            <a:ext cx="830556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Employee Identific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y donors for tax ded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ed from the 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SS-4 availabl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rs.gov/charities/article/0,,id=96109,00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dd00"/>
                </a:solidFill>
                <a:latin typeface="Century Gothic"/>
              </a:rPr>
              <a:t>Apply for Recognition of Exe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676520"/>
            <a:ext cx="838188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IRS Form 1023 with $500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rs.gov/charities/article/0,,id=96109,0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, FAQs also available at sa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our completed form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attachment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-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 of th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year financial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rais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 of incorporation - (see instru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of directors and offi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- usually 2-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dd00"/>
                </a:solidFill>
                <a:latin typeface="Century Gothic"/>
              </a:rPr>
              <a:t>Top Ten Reasons for Delays in Processing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577880"/>
            <a:ext cx="83818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nough financial dat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month does the annual accounting period end? Does the fiscal year ending date stated on the application agree with the fiscal year ending date stated in the by-laws, on the financial statements, etc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provide the required information on the principal officers and board of directo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provide enough information on the activities to show us how your exempt purpose will be achieved? Please don't restate your purpo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mplete all required schedules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dd00"/>
                </a:solidFill>
                <a:latin typeface="Century Gothic"/>
              </a:rPr>
              <a:t>Top Ten Reasons for Delays in Processing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600200"/>
            <a:ext cx="8077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mplete all required pag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an authorized individual sign the Form 10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dopted by-laws, did you submit a cop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ttach a complete copy of your organizing document and all amendm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son for delays in processing exempt organization applications i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RECT OR NO USER FE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rs.gov/charities/article/0,,id=96361,0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Other Stat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741320"/>
            <a:ext cx="754380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lnSpc>
                <a:spcPct val="15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s charity with state - not alway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5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sales tax exe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7480">
              <a:lnSpc>
                <a:spcPct val="15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ales tax on corporation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7480">
              <a:lnSpc>
                <a:spcPct val="15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s GREATLY b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Hooray!  You’ve Got Your Exemption Letter.  What’s Next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treasurer is not an accoun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 a student whose parent is an accoun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n accountant who need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 bo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to become a C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a young, single mentor to hang out at bars frequented by people who work at accounting fi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out in the lobby of an accounting firm until they agree to file your tax fo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example of others who have gone before y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Keeping The Book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s small as your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 your system as your team gr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buy a software packa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tart to outgrow your home-grow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have the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ckage should you bu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is avail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makes sense to y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htree Software makes an affordable non-profit pa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Reporting to Your B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ee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income and expendi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eriod and YT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ed amounts for current period and YT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meeting of fiscal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udget for next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eeting of fiscal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for an audit of the 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Filing Annual Information Retur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Revenue Service requi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Form 990 or 990-EZ, and Schedule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and instructions online separat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irs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3 months and 15 days after end of fiscal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3 month extension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m 886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ublication 4221 for recordkeeping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Annual State Franchise Ta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nd filing requirements vary with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ware has flat $25 fee for nonpro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filing may be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ignore th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alties for failure to fi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057400"/>
            <a:ext cx="79246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0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ers are not attorneys or IRS representatives, so the general information provided in this presentation should not be construed as legal advice for your specific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0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0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Corporate Don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sk for Your Tax ID Number (EI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W-9 – Request for taxpayer identification number and certification – can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sk for Tax ID before contribu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signed version hand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acknowledgement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if $250 or more don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onta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each cash con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(but not value) of any non-cash contrib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you provided any goods or services in return, and if so, the value of the goods and/or services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Individual Don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need a W-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acknowledgement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if $250 or more don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onta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each cash con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(but not value) of any non-cash contrib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you provided any goods or services in return, and if so, the value of the goods and/or services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 to include your Tax ID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tim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by January 31 of year following con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All Don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tudents to write a thank you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rom and in addition to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mandated acknowledgement l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ir experiences this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note of team accomplish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them for their con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team picture for the larger contribu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Online Help Avail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dd00"/>
                </a:solidFill>
                <a:latin typeface="Arial"/>
              </a:rPr>
              <a:t>www.moe365.org/moeu.ph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dd00"/>
                </a:solidFill>
                <a:latin typeface="Arial"/>
              </a:rPr>
              <a:t>www.irs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and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dd00"/>
                </a:solidFill>
                <a:latin typeface="Arial"/>
              </a:rPr>
              <a:t>www.irs.gov/charities/article/0,,id=96109,00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pro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to needed for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Questions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What’s a 501(c)(3), anyway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speaking, it is a non-profit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ly speaking, it is a section of the Internal Revenue Code of 198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the requirements for tax-exempt 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particular types of 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C teams qualify as publicly suppor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rofit educational 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Do You Need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735200"/>
            <a:ext cx="792468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sponsored by a school or church, or other IRS-recognized nonprofit organization don’t nee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ing organization already is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status applies to subsidiary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ther teams should ge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donations tax-de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team member travel expens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-deductible regardless of how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How Do You Get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316240"/>
            <a:ext cx="792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work, but not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lides and attachment available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moe365.org/moeu.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72872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your board of directors and/or offi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y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articles of incorporation with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 system for record keeping and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 taxpayer identification number from the 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recognition of tax-exempt status from the 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at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Basic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709640"/>
            <a:ext cx="838188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for in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t stand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y/Treas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incl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board members, including student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Choose Your Board of Directors</a:t>
            </a:r>
            <a:br>
              <a:rPr sz="4000"/>
            </a:b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and Offi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Write By-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724040"/>
            <a:ext cx="7543800" cy="49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for in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sampl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fication of officers and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ution of corporation -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File Articles of Incorporation</a:t>
            </a:r>
            <a:br>
              <a:rPr sz="4000"/>
            </a:b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With Your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676520"/>
            <a:ext cx="7543800" cy="49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b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be called Business Registration or Ch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state websi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www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gov or www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bre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tes available on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non-profit statu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help useful but not requir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 state bar associa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 bo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corporate name, address (not a P.O.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$25-$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3:08:17Z</dcterms:created>
  <dc:creator>Bill Enslen</dc:creator>
  <dc:description/>
  <dc:language>en-US</dc:language>
  <cp:lastModifiedBy>Wendy L. Trommer</cp:lastModifiedBy>
  <dcterms:modified xsi:type="dcterms:W3CDTF">2006-07-25T15:27:17Z</dcterms:modified>
  <cp:revision>21</cp:revision>
  <dc:subject/>
  <dc:title>Slide 1</dc:title>
</cp:coreProperties>
</file>